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51800" y="990720"/>
            <a:ext cx="237636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4956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Chapter 6 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67816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Introduction to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mical Engineering Thermodynamics</a:t>
            </a:r>
            <a:br>
              <a:rPr sz="48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venth Edition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ith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n Nes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0" y="515880"/>
            <a:ext cx="9129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560" y="812880"/>
            <a:ext cx="90928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320" y="1566720"/>
            <a:ext cx="90453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76240" y="17640"/>
            <a:ext cx="55929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20960" y="12600"/>
            <a:ext cx="53020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280" y="42840"/>
            <a:ext cx="889488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0" y="190440"/>
            <a:ext cx="9045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240" y="977760"/>
            <a:ext cx="90853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040" y="9360"/>
            <a:ext cx="782172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760" y="320760"/>
            <a:ext cx="90979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7:37:00Z</dcterms:created>
  <dc:creator>MHE</dc:creator>
  <dc:description/>
  <dc:language>en-US</dc:language>
  <cp:lastModifiedBy>MHE</cp:lastModifiedBy>
  <dcterms:modified xsi:type="dcterms:W3CDTF">2004-11-29T17:46:22Z</dcterms:modified>
  <cp:revision>6</cp:revision>
  <dc:subject/>
  <dc:title>Slide 1</dc:title>
</cp:coreProperties>
</file>