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E25-6E94-4D2B-963F-D3D4EAB5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B19-9918-4815-82B8-634FCC4F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8AC-140D-4A5B-A7DC-A99E597F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138-D5E4-4C51-B49F-D5CDD30B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52C7-09BA-4D6C-9E21-1E1A942F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B42E-54BF-41EC-AC98-E7D3F94D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07DF-CF09-41A7-A9BD-C19893D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F182-41EA-40C5-8F61-0EB142AD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D86A-1622-4070-BC32-A983422C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D270-27A8-4423-8589-86639B51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9064-FA4B-4376-8C72-8AD9B088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1A4-7ED3-41B7-B2BC-8C9991E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E8A3-17E3-4F40-8A0F-02FA585D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514E-E74C-4DFA-98FC-706E693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E681-1810-4F5A-9A35-E4D0706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F849-76A4-4321-8D02-DF42DDD2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13B-C669-460A-9D4D-E5C65AC1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FAF7-7340-4695-AE9A-7A55B896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AE06-2C23-41CB-B28E-95C8C99F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FBD6-F6E6-44D3-8D10-BD1D0C9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6AEB-159F-4BE5-9B9B-128E85C9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05E4-3EC8-4EF1-A169-F67AFD28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060-544A-444A-B4DD-4C54FE5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755B-3ADB-41AE-B885-B719FE5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815B-6A2E-42C2-AFE8-56ACE21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7745-737A-4600-82E8-955C9E9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2E4C-99AF-4D74-BFB5-308FF708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8860-4D5B-4863-BA8C-62D7F9CD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586D-AC5B-49AD-846F-F57F729D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7A2F-D82E-4B78-AEA9-D2016A6C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3C74-5267-4BF1-ABC8-3A4E3A1A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8B8F-9B6F-4437-9473-45094DFB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7ACD-E258-4532-BBE1-A68BC33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D8D-3031-4AB0-91E0-FAF22F3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3602-8547-4E13-B0B7-969A757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E0580-9F94-4F32-9F3D-1E83EEE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5B4CE-F530-48A8-BAB2-C39D8D8D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54A6-E05D-4A00-B93F-D2AFF83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282B-6E81-449C-963C-5B7B41A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94DF-75D6-408A-8229-3722215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8708-93CF-45AA-942D-D9A6248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9AEF-6E30-48ED-B061-6A8D7680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AA8B-2134-4FE4-BB85-77B90E2E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64594-D4CA-4EC6-9E3E-86DAE4CB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359-9DA6-4A64-B989-8A6D62A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1437-5670-4064-B536-3D54BE68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ED1E6-290D-42B2-B513-5D3BBF7C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9B2A1-6CCE-4B3F-BF84-B8A4D5FE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110C-0886-429E-A773-885DF2C4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739A-26B6-4C29-A958-FE5BE1E4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434F-8056-4798-B014-6BB1646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1E029-C492-4ABF-A148-C4D8D118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A492-A522-45E1-8EF5-54C71AD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062C5-9D50-4C78-BE75-EFE0847D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790C-C3FC-421E-8DDF-B9FE73AD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BB3-E070-4741-8882-7A88402D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F611-A65D-46F2-B916-DA29A83A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0073-A3AB-4ADA-8C95-9E0993FA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A774-EA12-4B74-A32E-3BC00CD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4679-51E9-4678-B766-F8E6F3C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AD28C-FEA6-4FDA-988F-1BB4BF9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964EE-C35E-49FB-81A7-9E64E90B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D64CA-8327-4E97-BDB9-8A0ED3BC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6AB1-EABE-40B3-8127-9523763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1DE9-3962-441D-9673-B68F8B5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99B4-5F6A-4C5E-A05A-E41D650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FC9-3F6E-4C8B-92AF-E1A4EB3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328C-4D8D-4F47-BD94-28FC87F4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1CD8-1AD8-483D-AB22-A05102AA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9552D-18F5-4589-B9E6-8EE58948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24DDF-EF1C-4F38-9251-FB8BE919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541B-C66C-4B58-9852-C88E288A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BDA4E-F124-484C-8EFB-BC6054E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1DA7-2417-4B53-9941-8A31C118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AD8F7-5581-411B-917B-DA5A077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BEF8-8C01-45A1-9A5F-DC2402F6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B55F-A716-4BCB-AD11-82BD844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726-AAC2-4B7D-B53D-EC96D80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78038-3AC3-4888-9B2D-C833F05C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08E6-09F0-4DE4-9B54-65D8012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4C50-5214-431E-8248-7F055054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1644F-3A29-4A32-84B9-51B43551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50CE8-65EA-4033-93DE-60FFFADE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6957-4B9E-4B4C-8D60-0FA7C028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BAC1A-DA3A-4E9F-AC6B-BBC7843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CACB-857F-4795-8CAB-98261D9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8BF6-D29C-4EA1-98CC-6268D8A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69E1D-FBC5-4F3A-83E2-339CA195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AA3-9B8C-4882-9212-CD302867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9F8DB-7815-4CE7-B699-69D38F30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70BF-223C-4456-84F7-A1BC6A9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F8994-C3DA-479B-B9C2-82BBFB3D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8711-50C2-469D-956D-293B2EE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8CD71-0E14-47C5-886A-3A0AEAF3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4E70-52F5-4897-9708-5924C0AE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8EC7-1033-4274-9B35-BF1D9283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02BB-2D7F-45F5-A151-9BE2F02955EF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0663-8DAD-41B0-B14C-576B3E4E734E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FA29-4C25-4844-916E-FCA8A7294AEC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213F-432B-4DE3-8BB4-99B332FF6388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6C07-44B9-468F-AA37-7ACEA34F8E1E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9593-8FCB-40C2-B7B1-93D1867EBDFE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DE93-A4A5-4807-8379-9444451376B4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106F-2982-4C7B-BC35-A866235E0854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Century Gothic"/>
              </a:rPr>
              <a:t>dr.Johannes R.S Sp.P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Manifestasi jaringan ikat dan tulang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Century Gothic"/>
              </a:rPr>
              <a:t>Hypertrophic Pulmonary Osteoarthropathy 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→ Ca.epidermoid → jari tabuh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Manifestasi vaskuler dan hematologik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purpura : anemia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tastatik ekstrapulmona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menyebar ke otak, hati, dan tulang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Staging 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. sel ke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imited Stage (L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tensive Stage (E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. bukan sel ke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NM (Tumor Node Metastasi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entury Gothic"/>
              </a:rPr>
              <a:t>Staging of Tumors 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Loca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066680" y="1523880"/>
          <a:ext cx="7543800" cy="46180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838440"/>
                <a:gridCol w="1371600"/>
                <a:gridCol w="228600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a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urvival- 1 th/ 5 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4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tumor &lt; 3 cm,dikelilingi jaringan paru/ ple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dak ada tumor proksimal terhadap bronkus lobar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4% / 67%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; tumor &gt; 3 cm, &gt; 2 cm distal karina, pleura (+), atelektasis, pneumonitis sampai ke hilu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% / 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; ipsilateral peribronchial/ kelainan hilus oleh karena eksten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9% / 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Locally Advanced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143000" y="1143000"/>
          <a:ext cx="7467480" cy="487692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838440"/>
                <a:gridCol w="1371600"/>
                <a:gridCol w="22096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a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urvival 1th / 5 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tumor ke dinding dada, diafragma, pelura mediastinal, perikard, bronkus utama &lt; 2 cm distal karina, atelektasis / pneumonitis seluruh pa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% / 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keterlibatan kel. Mediastinum ipsilateral / kel. supraklaviku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4% / 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– 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keterlibatan kel. Kontralateral / supraklaviku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% / 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Advanced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19320" y="1600200"/>
          <a:ext cx="7467480" cy="33526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990720"/>
                <a:gridCol w="914400"/>
                <a:gridCol w="25905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a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urvival 1th – 5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mediastinum jantung, pembuluh darah besar, trakea, esofagus, corpus vertebrae, carina, efusi ple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% - 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metastasis jau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% / 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atalaksana Diagnosti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teksi dini (kecurigaan) 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&gt; 40 tahu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rok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paran industri tertentu : Asbest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miliki 1 atau lebih gejala klinis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5327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Content Placeholder 2" descr=""/>
          <p:cNvPicPr/>
          <p:nvPr/>
        </p:nvPicPr>
        <p:blipFill>
          <a:blip r:embed="rId1"/>
          <a:stretch/>
        </p:blipFill>
        <p:spPr>
          <a:xfrm>
            <a:off x="450720" y="1170000"/>
            <a:ext cx="8242560" cy="4578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Content Placeholder 2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8255160" cy="57117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99072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Targeted Chemotherapeutic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Inhibisi terhadap : growth receptors dan angiogenesis intervensi proses metastasi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Anti-epidermal Growth Factor Receptors (anti EGF-R) :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Cetuximab (Erbitux),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Gefitinib (Iressa)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Terapi operatif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Untuk Ca.bukan sel kecil stadium I, II, IIIA, T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 Pancoast tumor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0948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Resiko terkena kanker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Ekspos terhadap karsinoge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Faktor </a:t>
            </a:r>
            <a:r>
              <a:rPr b="0" i="1" lang="en-US" sz="2500" spc="-1" strike="noStrike">
                <a:solidFill>
                  <a:srgbClr val="000000"/>
                </a:solidFill>
                <a:latin typeface="Century Gothic"/>
              </a:rPr>
              <a:t>host</a:t>
            </a: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 : peka terhadap karsinoge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Sifat utama kanker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ertumbuhan tak terkendali (karsinogenesis)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metastasis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4" name="Rectangle 9"/>
          <p:cNvSpPr/>
          <p:nvPr/>
        </p:nvSpPr>
        <p:spPr>
          <a:xfrm rot="20728800">
            <a:off x="1314360" y="2382480"/>
            <a:ext cx="6523200" cy="2198520"/>
          </a:xfrm>
          <a:prstGeom prst="rect">
            <a:avLst/>
          </a:prstGeom>
          <a:solidFill>
            <a:srgbClr val="d9d9d9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f7f7f"/>
                </a:solidFill>
                <a:latin typeface="Blackadder ITC"/>
              </a:rPr>
              <a:t>Terimakasi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Tahap- tahap karsinogenesis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Inisiasi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Promosi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Progresi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7617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Proses- proses metastasis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ovaskularisasi dan angiogenesi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ss of cell-cohe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mune cell-tumors intera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dothelial cell-tumors intera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ell attachment and migr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Definisi → tumor ganas paru primer yang berasal dari saluran nafa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Klasifikasi Histopatologik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838080" y="3505320"/>
          <a:ext cx="6934320" cy="2385720"/>
        </p:xfrm>
        <a:graphic>
          <a:graphicData uri="http://schemas.openxmlformats.org/drawingml/2006/table">
            <a:tbl>
              <a:tblPr/>
              <a:tblGrid>
                <a:gridCol w="3637080"/>
                <a:gridCol w="1268280"/>
                <a:gridCol w="20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kuen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ubbling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pidermoid 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eno 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. sel ke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. sel be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Untuk keperluan terapi 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. sel kecil             → 15 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. bukan sel kecil → 85 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Prevalensi dan insiden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USA : no.2 setelah Ca. prostat → laki- laki, dan 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.mammae → wanita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Penyebab kematian utama pada kasus keganasan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Pasca diagnostik 1 tahun : 60 %,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        2 tahun : 75 %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Century Gothic"/>
              </a:rPr>
              <a:t>Faktor resiko :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eroko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in- lain: - radiasi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arseni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asbesto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kromium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gas mustard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infeksi (Tb, Human Papilloma Viru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anifestasi klinik 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Intrapulmonal :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Batuk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Batuk berdarah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yeri dada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Sesak nafas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Intratorakal, ekstrapulmonal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. Phrenicus → parese/paralisis diafragma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. recurrens → parese/paralisis chorda vocalis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. simpatik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syndr. Hörner, enopthalmus, miosis, ptosis, anhidrosis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Esofagus       → disfagia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VCS               → syndr. VCS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Trakea/ bronkus utama → sesak, atelektasis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017720"/>
            <a:ext cx="8242560" cy="51638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2:50:10Z</dcterms:created>
  <dc:creator> </dc:creator>
  <dc:description/>
  <dc:language>en-US</dc:language>
  <cp:lastModifiedBy>user</cp:lastModifiedBy>
  <dcterms:modified xsi:type="dcterms:W3CDTF">2010-12-10T02:02:05Z</dcterms:modified>
  <cp:revision>37</cp:revision>
  <dc:subject/>
  <dc:title>KANKER PARU</dc:title>
</cp:coreProperties>
</file>