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EA11-C8EE-47C8-82C6-C18EF0A7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8411-701B-4E8E-9EF6-58172391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BCC-DF57-4E56-BEA3-1DC7FA0D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57E1-457E-4430-A68A-E087D6B5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C83B-001A-4D4E-A2B2-DAE50AEF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BB46-FB1B-4E60-9B1B-A638950D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3926-8F6A-4611-88D7-E0FFBB1F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4C90-A316-4B69-A0E3-68072F11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9C29-198B-4AEC-AC42-743940A8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13C5-CE70-423D-A2FE-9D5FA81A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DEB8-845C-4F1C-949B-DE6EA99B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3444-82FA-48C7-B5A9-4404F572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A2ED-1DA1-4E8D-A85F-A613F887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4F77-16C7-4D85-B887-7DAB046D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D2E5-B106-4DE3-BA9D-EF0B878D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FFD7-0D20-4F82-9FE2-95D118A8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D88D-CD94-4D60-AF07-20B1E065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30573-5D6A-4433-863C-B4A9E8FC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55F61-8AB3-4175-9929-8F6CA611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DAD76-DD17-432B-A373-492929EB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41AEA-0D9E-4198-9FC2-D57ED7F0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ABC6F-4DC8-43C1-85F9-577342F0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E668-7EE7-4648-B2BB-0BE05A86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B95D8-3B13-44FA-96F2-52638109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50F5A-79F9-46A6-BD5B-2A9B7040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06268-C049-461C-9DD8-2B1132B8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A895C-5195-4AFD-9CCE-4CA16376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F7AEE-11E3-4EFC-B9B6-9C2597A1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241B4-A43D-48E1-8585-786F30B1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EA5CF-F1E5-408D-86FC-2B548FBF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EBBC3-EB15-41E6-B1A4-D07DFCD4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F99D0-77BD-4B19-87F3-6AC2E7B2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72A3F-2124-4289-B193-0EA60DEE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0A63-66D1-45D0-BA57-09764076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E591E-2D37-4D0A-A618-3C49CC09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DA05F-261B-46C8-BEE6-793C20E1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D175D-5CEC-4405-81E2-021CFA92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4F9EE-E1ED-4883-A077-0CA2EAF7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347FB-8B8F-43F9-92E5-A2FA9345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2CB3E-5130-422C-BC37-3676F576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86132-BD64-4F1E-AFB5-B68AB4B3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9D6FD-B6A8-41D6-9015-9F1342AC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6135C-B6B8-44E1-BF7E-DB2A3FA2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50E47-F0A1-49AA-951F-811CD351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C22C-B548-48F3-B2B3-189BF637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F96D5-CC4C-4780-8C05-3A1A903D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A89BC-224C-41BF-BB0D-422F16E9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84106-B3D5-4A8F-90B0-ED77B8D0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70C55-1DB1-4C92-AC4C-3F18E098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BB962-7AD0-420C-A2A2-2DE70582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C9701-85C7-43B0-9C3F-FAC0F399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64573-40C7-4F75-8E94-F28E2147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DFCE8-BF88-4139-9671-08913425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AB5BA-9BD7-4677-8E34-9C733A0F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00DC6-0A7E-42D1-93C8-C6C75C1D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072C-5041-4978-99C6-1B344FFA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07E3D-3821-422B-A3C6-CE2B1DCB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3C20D-CA4C-4C9E-986D-4C3CD108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00E31-6A0C-493A-88CF-509C9A3D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2C5E1-2959-43F8-8642-204FC98F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1EF3B-D537-4E59-9A19-9AEB709B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38D85-A6FC-4514-806F-05F60915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B3E05-C566-4B96-8304-D6C3754A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F601D-1B5E-4B25-94BC-A3E1EEC4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38AC7-E715-4197-8E3A-6A4F0EE9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9C1F3-A56D-4568-9938-7069819A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7ADB-D038-41C2-B22A-634B404E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8027B-AFB8-46EC-AB54-32D9496F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478B8-2865-48E6-BC67-63944A07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7342C-6900-4BED-A3AF-3A815BF3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6126B-142F-4669-8556-237B71CE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E0B27-E21C-4C5B-871E-884FBEC1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2B24E-BDB9-4241-BB12-DA3C87E9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DB88E-60FA-4566-8636-3B4E1219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0FF39-5689-4E22-B772-00813114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573A6-C727-4C23-A64B-7E916CBD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9D9CE-02CC-4AEF-8905-21C22B77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64D8-56D9-4DA6-8BA6-1DEEE159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163DD-09FB-42E3-A32C-C123F87B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8F9A3-3ADE-4909-8190-F282B870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7F020-0019-42DA-951B-3C5540F6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1149B-E89B-4D67-8CDA-04B395A0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E5F3D-FFF6-41FB-AA80-DD077F636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BCC8F-19AD-4715-A8E6-753F725D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2FC32-6AA7-45A3-8867-A0F506DD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947F2-9730-4559-9353-935979FA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CD7D1-4F4B-40F2-A036-8FEC212C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92742-890A-4D06-8CA7-DA51F368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4A3C-6BB1-4E28-982F-95DD8A47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196E0-1CEE-44C9-A06D-DC7030AF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A041C-CA2B-4829-8FD6-8180B111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59ACA-3E3E-43C1-B2CF-D40FA8B7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63A45-C5B9-4742-9DC9-C5DF067C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6BD27-8513-469A-9773-FEEB549A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62B2F-453F-4A69-8B54-2185CD92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BA9BF-4A8F-4C4D-9AB3-08CA466B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9990-272B-4AA6-8064-DA09EE47355D}" type="slidenum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B7DE-8B5B-41DF-9D53-75C500F9EAA2}" type="slidenum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4D86-0E50-4F1D-9267-4A8CD32AA0AD}" type="slidenum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5C6B-8240-431D-A25C-D963F982490E}" type="slidenum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1F93-F179-442C-9EE7-F59E0D6F8930}" type="slidenum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18A9-B868-40EF-8C22-DC922C5C701D}" type="slidenum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D986-435E-46F9-8DBA-087C82BF416E}" type="slidenum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9505-C4E9-4947-8FA3-EE5A8236C906}" type="slidenum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Century Gothic"/>
              </a:rPr>
              <a:t>dr.Johannes R.S Sp.P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Manifestasi jaringan ikat dan tulang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Century Gothic"/>
              </a:rPr>
              <a:t>Hypertrophic Pulmonary Osteoarthropathy </a:t>
            </a: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→ Ca.epidermoid → jari tabuh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Manifestasi vaskuler dan hematologik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purpura : anemia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Century Gothic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Metastatik ekstrapulmona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879480" indent="-5144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menyebar ke otak, hati, dan tulang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Staging :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a. sel keci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imited Stage (LS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tensive Stage (ES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a. bukan sel keci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NM (Tumor Node Metastasis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Century Gothic"/>
              </a:rPr>
              <a:t>Staging of Tumors :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Loca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120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Century Gothic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066680" y="1523880"/>
          <a:ext cx="7543800" cy="461808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838440"/>
                <a:gridCol w="1371600"/>
                <a:gridCol w="2286000"/>
                <a:gridCol w="1218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um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tas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eterang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% survival- 1 th/ 5 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4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; tumor &lt; 3 cm,dikelilingi jaringan paru/ pleu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idak ada tumor proksimal terhadap bronkus lobar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4% / 67%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26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; tumor &gt; 3 cm, &gt; 2 cm distal karina, pleura (+), atelektasis, pneumonitis sampai ke hilus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7% / 5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; ipsilateral peribronchial/ kelainan hilus oleh karena eksten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9% / 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p:transition spd="slow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Locally Advanced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Century Gothic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143000" y="1143000"/>
          <a:ext cx="7467480" cy="487692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838440"/>
                <a:gridCol w="1371600"/>
                <a:gridCol w="2209680"/>
                <a:gridCol w="12952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um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tas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eterang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% survival 1th / 5 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95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3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; tumor ke dinding dada, diafragma, pelura mediastinal, perikard, bronkus utama &lt; 2 cm distal karina, atelektasis / pneumonitis seluruh par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3% / 3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I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; keterlibatan kel. Mediastinum ipsilateral / kel. supraklaviku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4% / 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I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– 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3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; keterlibatan kel. Kontralateral / supraklaviku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2% / 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Century Gothic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Advanced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Century Gothic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219320" y="1600200"/>
          <a:ext cx="7467480" cy="33526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990720"/>
                <a:gridCol w="914400"/>
                <a:gridCol w="2590560"/>
                <a:gridCol w="1219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um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tas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eterang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% survival 1th – 5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5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I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4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; mediastinum jantung, pembuluh darah besar, trakea, esofagus, corpus vertebrae, carina, efusi pleu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% - 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9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; metastasis jau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% / 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1426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Tatalaksana Diagnostik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eteksi dini (kecurigaan) 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7440" indent="-514080">
              <a:spcBef>
                <a:spcPts val="349"/>
              </a:spcBef>
              <a:buClr>
                <a:srgbClr val="da1f28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i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17440" indent="-514080">
              <a:spcBef>
                <a:spcPts val="349"/>
              </a:spcBef>
              <a:buClr>
                <a:srgbClr val="da1f28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&gt; 40 tahu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17440" indent="-514080">
              <a:spcBef>
                <a:spcPts val="349"/>
              </a:spcBef>
              <a:buClr>
                <a:srgbClr val="da1f28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erokok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17440" indent="-514080">
              <a:spcBef>
                <a:spcPts val="349"/>
              </a:spcBef>
              <a:buClr>
                <a:srgbClr val="da1f28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aparan industri tertentu : Asbesto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17440" indent="-514080">
              <a:spcBef>
                <a:spcPts val="349"/>
              </a:spcBef>
              <a:buClr>
                <a:srgbClr val="da1f28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emiliki 1 atau lebih gejala klinis</a:t>
            </a: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ontent Placeholder 2" descr=""/>
          <p:cNvPicPr/>
          <p:nvPr/>
        </p:nvPicPr>
        <p:blipFill>
          <a:blip r:embed="rId1"/>
          <a:stretch/>
        </p:blipFill>
        <p:spPr>
          <a:xfrm>
            <a:off x="450720" y="530280"/>
            <a:ext cx="8242560" cy="53276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120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Content Placeholder 2" descr=""/>
          <p:cNvPicPr/>
          <p:nvPr/>
        </p:nvPicPr>
        <p:blipFill>
          <a:blip r:embed="rId1"/>
          <a:stretch/>
        </p:blipFill>
        <p:spPr>
          <a:xfrm>
            <a:off x="450720" y="1170000"/>
            <a:ext cx="8242560" cy="45784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8936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p:transition spd="slow"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Content Placeholder 2" descr=""/>
          <p:cNvPicPr/>
          <p:nvPr/>
        </p:nvPicPr>
        <p:blipFill>
          <a:blip r:embed="rId1"/>
          <a:stretch/>
        </p:blipFill>
        <p:spPr>
          <a:xfrm>
            <a:off x="450720" y="469800"/>
            <a:ext cx="8255160" cy="57117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990720"/>
            <a:ext cx="8229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Century Gothic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Targeted Chemotherapeutics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3" marL="1400040" indent="-514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Inhibisi terhadap : growth receptors dan angiogenesis intervensi proses metastasis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3" marL="1400040" indent="-514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Anti-epidermal Growth Factor Receptors (anti EGF-R) :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3" marL="1400040" indent="-51408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Cetuximab (Erbitux),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3" marL="1400040" indent="-51408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Gefitinib (Iressa).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3" marL="1400040" indent="-51408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Century Gothic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Terapi operatif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3" marL="1400040" indent="-514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Untuk Ca.bukan sel kecil stadium I, II, IIIA, T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Gothic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 Pancoast tumor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609480"/>
            <a:ext cx="82296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entury Gothic"/>
              </a:rPr>
              <a:t>Resiko terkena kanker :</a:t>
            </a:r>
            <a:endParaRPr b="0" lang="en-US" sz="35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Ekspos terhadap karsinogen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Faktor </a:t>
            </a:r>
            <a:r>
              <a:rPr b="0" i="1" lang="en-US" sz="2500" spc="-1" strike="noStrike">
                <a:solidFill>
                  <a:srgbClr val="000000"/>
                </a:solidFill>
                <a:latin typeface="Century Gothic"/>
              </a:rPr>
              <a:t>host</a:t>
            </a: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 : peka terhadap karsinogen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entury Gothic"/>
              </a:rPr>
              <a:t>Sifat utama kanker :</a:t>
            </a:r>
            <a:endParaRPr b="0" lang="en-US" sz="35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Pertumbuhan tak terkendali (karsinogenesis)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metastasis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4" name="Rectangle 9"/>
          <p:cNvSpPr/>
          <p:nvPr/>
        </p:nvSpPr>
        <p:spPr>
          <a:xfrm rot="20728800">
            <a:off x="1314360" y="2382480"/>
            <a:ext cx="6523200" cy="2198520"/>
          </a:xfrm>
          <a:prstGeom prst="rect">
            <a:avLst/>
          </a:prstGeom>
          <a:solidFill>
            <a:srgbClr val="d9d9d9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7f7f7f"/>
                </a:solidFill>
                <a:latin typeface="Blackadder ITC"/>
              </a:rPr>
              <a:t>Terimakasi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14264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entury Gothic"/>
              </a:rPr>
              <a:t>Tahap- tahap karsinogenesis :</a:t>
            </a:r>
            <a:endParaRPr b="0" lang="en-US" sz="3500" spc="-1" strike="noStrike">
              <a:solidFill>
                <a:srgbClr val="000000"/>
              </a:solidFill>
              <a:latin typeface="Century Gothic"/>
            </a:endParaRPr>
          </a:p>
          <a:p>
            <a:pPr lvl="1" marL="971640" indent="-514440">
              <a:spcBef>
                <a:spcPts val="326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entury Gothic"/>
              </a:rPr>
              <a:t>Inisiasi</a:t>
            </a:r>
            <a:endParaRPr b="0" lang="en-US" sz="3500" spc="-1" strike="noStrike">
              <a:solidFill>
                <a:srgbClr val="000000"/>
              </a:solidFill>
              <a:latin typeface="Century Gothic"/>
            </a:endParaRPr>
          </a:p>
          <a:p>
            <a:pPr lvl="1" marL="971640" indent="-514440">
              <a:spcBef>
                <a:spcPts val="326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entury Gothic"/>
              </a:rPr>
              <a:t>Promosi</a:t>
            </a:r>
            <a:endParaRPr b="0" lang="en-US" sz="3500" spc="-1" strike="noStrike">
              <a:solidFill>
                <a:srgbClr val="000000"/>
              </a:solidFill>
              <a:latin typeface="Century Gothic"/>
            </a:endParaRPr>
          </a:p>
          <a:p>
            <a:pPr lvl="1" marL="971640" indent="-514440">
              <a:spcBef>
                <a:spcPts val="326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entury Gothic"/>
              </a:rPr>
              <a:t>Progresi</a:t>
            </a:r>
            <a:endParaRPr b="0" lang="en-US" sz="35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76176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entury Gothic"/>
              </a:rPr>
              <a:t>Proses- proses metastasis :</a:t>
            </a:r>
            <a:endParaRPr b="0" lang="en-US" sz="3500" spc="-1" strike="noStrike">
              <a:solidFill>
                <a:srgbClr val="000000"/>
              </a:solidFill>
              <a:latin typeface="Century Gothic"/>
            </a:endParaRPr>
          </a:p>
          <a:p>
            <a:pPr lvl="1" marL="971640" indent="-514440">
              <a:spcBef>
                <a:spcPts val="326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eovaskularisasi dan angiogenesi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971640" indent="-514440">
              <a:spcBef>
                <a:spcPts val="326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oss of cell-cohes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971640" indent="-514440">
              <a:spcBef>
                <a:spcPts val="326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mune cell-tumors interaction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971640" indent="-514440">
              <a:spcBef>
                <a:spcPts val="326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ndothelial cell-tumors interaction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971640" indent="-514440">
              <a:spcBef>
                <a:spcPts val="326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ell attachment and migrat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Definisi → tumor ganas paru primer yang berasal dari saluran nafas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Klasifikasi Histopatologik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"/>
          <p:cNvGraphicFramePr/>
          <p:nvPr/>
        </p:nvGraphicFramePr>
        <p:xfrm>
          <a:off x="838080" y="3505320"/>
          <a:ext cx="6934320" cy="2385720"/>
        </p:xfrm>
        <a:graphic>
          <a:graphicData uri="http://schemas.openxmlformats.org/drawingml/2006/table">
            <a:tbl>
              <a:tblPr/>
              <a:tblGrid>
                <a:gridCol w="3637080"/>
                <a:gridCol w="1268280"/>
                <a:gridCol w="2028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rekuen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ubbling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pidermoid C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 h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deno C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 h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a. sel kec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 h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a. sel bes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4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 h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1cfe8"/>
                        </a:gs>
                        <a:gs pos="100000">
                          <a:srgbClr val="dfeff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Untuk keperluan terapi :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514440">
              <a:spcBef>
                <a:spcPts val="326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Ca. sel kecil             → 15 %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514440">
              <a:spcBef>
                <a:spcPts val="326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Ca. bukan sel kecil → 85 %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Prevalensi dan insidens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USA : no.2 setelah Ca. prostat → laki- laki, dan </a:t>
            </a: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Ca.mammae → wanita.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Penyebab kematian utama pada kasus keganasan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Pasca diagnostik 1 tahun : 60 %,</a:t>
            </a: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        2 tahun : 75 %.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8936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761760"/>
            <a:ext cx="8229600" cy="52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000000"/>
                </a:solidFill>
                <a:uFillTx/>
                <a:latin typeface="Century Gothic"/>
              </a:rPr>
              <a:t>Faktor resiko :</a:t>
            </a:r>
            <a:endParaRPr b="0" lang="en-US" sz="37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Perokok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Lain- lain: - radiasi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- arsenik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- asbesto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- kromium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- gas mustard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- infeksi (Tb, Human Papilloma Virus)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p:transition spd="slow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5331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Manifestasi klinik :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971640" indent="-514440">
              <a:spcBef>
                <a:spcPts val="326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Intrapulmonal :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5144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Gothic"/>
              </a:rPr>
              <a:t>Batuk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5144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Gothic"/>
              </a:rPr>
              <a:t>Batuk berdarah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5144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Gothic"/>
              </a:rPr>
              <a:t>Nyeri dada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5144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Gothic"/>
              </a:rPr>
              <a:t>Sesak nafas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51444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lvl="1" marL="971640" indent="-514440">
              <a:spcBef>
                <a:spcPts val="326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Intratorakal, ekstrapulmonal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5144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Gothic"/>
              </a:rPr>
              <a:t>N. Phrenicus → parese/paralisis diafragma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5144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Gothic"/>
              </a:rPr>
              <a:t>N. recurrens → parese/paralisis chorda vocalis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5144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Gothic"/>
              </a:rPr>
              <a:t>N. simpatik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900" spc="-1" strike="noStrike">
                <a:solidFill>
                  <a:srgbClr val="000000"/>
                </a:solidFill>
                <a:latin typeface="Century Gothic"/>
                <a:ea typeface="Arial"/>
              </a:rPr>
              <a:t>syndr. Hörner, enopthalmus, miosis, ptosis, anhidrosis.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5144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Gothic"/>
                <a:ea typeface="Arial"/>
              </a:rPr>
              <a:t>Esofagus       → disfagia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5144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Gothic"/>
                <a:ea typeface="Arial"/>
              </a:rPr>
              <a:t>VCS               → syndr. VCS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5144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Gothic"/>
                <a:ea typeface="Arial"/>
              </a:rPr>
              <a:t>Trakea/ bronkus utama → sesak, atelektasis.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8936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Content Placeholder 2" descr=""/>
          <p:cNvPicPr/>
          <p:nvPr/>
        </p:nvPicPr>
        <p:blipFill>
          <a:blip r:embed="rId1"/>
          <a:stretch/>
        </p:blipFill>
        <p:spPr>
          <a:xfrm>
            <a:off x="450720" y="1017720"/>
            <a:ext cx="8242560" cy="516384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2:50:10Z</dcterms:created>
  <dc:creator> </dc:creator>
  <dc:description/>
  <dc:language>en-US</dc:language>
  <cp:lastModifiedBy>user</cp:lastModifiedBy>
  <dcterms:modified xsi:type="dcterms:W3CDTF">2010-12-10T02:02:05Z</dcterms:modified>
  <cp:revision>37</cp:revision>
  <dc:subject/>
  <dc:title>KANKER PARU</dc:title>
</cp:coreProperties>
</file>