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E8A-98E8-43EE-99B5-45B06FB2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B94-4346-4E19-87ED-219D92C9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169-4ADD-4E5C-90CB-A1F29D15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456-21C4-4C1D-BFFD-6612FA47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39A-B1FE-4D61-AA84-79343F60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C89D-D052-48CB-9F59-C4E705DF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9F5-3171-4D94-BABD-4104B6EE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0F8-903F-4FBE-9746-DD88F753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537E-3A1D-4785-AE66-95AA09E7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22A9-A693-40F2-B6A0-7EB86A78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AC5-2573-4F7E-BABE-119FFD5E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89C-1BE3-4A3B-BEF2-80BCC4F4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A46D-6BDF-4E60-82B8-1A2A08CC2BC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476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7c80"/>
                </a:solidFill>
                <a:latin typeface="Arial Black"/>
              </a:rPr>
              <a:t>La ferme de monsieur Piz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941440" y="27813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83320" y="1052640"/>
            <a:ext cx="20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7c80"/>
                </a:solidFill>
                <a:latin typeface="Arial Black"/>
              </a:rPr>
              <a:t>Alt 138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03280" y="119700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Arial Black"/>
              </a:rPr>
              <a:t>Treuil pour monter les mar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48000" y="1700280"/>
            <a:ext cx="144360" cy="288108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in" orient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300720" y="335772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7c80"/>
                </a:solidFill>
                <a:latin typeface="Arial Black"/>
              </a:rPr>
              <a:t>Que porte t’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148360" y="4005360"/>
            <a:ext cx="1944720" cy="180000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heel spokes="3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867280" y="765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Les ver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l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333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7c80"/>
                </a:solidFill>
                <a:latin typeface="Arial Black"/>
              </a:rPr>
              <a:t>Perrier ou ro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620640"/>
            <a:ext cx="936720" cy="208764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765000"/>
            <a:ext cx="6481800" cy="431964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mb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24000" y="404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7c80"/>
                </a:solidFill>
                <a:latin typeface="Arial Black"/>
              </a:rPr>
              <a:t>C’est bien le rou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l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51280" y="40464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 Black"/>
              </a:rPr>
              <a:t>Le cou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heel spokes="8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403280" y="83664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7c80"/>
                </a:solidFill>
                <a:latin typeface="Arial Black"/>
              </a:rPr>
              <a:t>la chemi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73280" y="-603360"/>
            <a:ext cx="7686360" cy="7461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55640" y="33336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be0e3"/>
                </a:solidFill>
                <a:latin typeface="Arial Black"/>
              </a:rPr>
              <a:t>La sou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692280"/>
            <a:ext cx="1224000" cy="122400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ipe dir="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71640" y="2060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99ff66"/>
                </a:solidFill>
                <a:latin typeface="Arial Black"/>
              </a:rPr>
              <a:t> </a:t>
            </a:r>
            <a:r>
              <a:rPr b="1" i="1" lang="fr-FR" sz="2400" spc="-1" strike="noStrike">
                <a:solidFill>
                  <a:srgbClr val="99ff66"/>
                </a:solidFill>
                <a:latin typeface="Arial Black"/>
              </a:rPr>
              <a:t>l’et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187280" y="2708280"/>
            <a:ext cx="720720" cy="649440"/>
          </a:xfrm>
          <a:prstGeom prst="line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r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32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140360" y="306864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7c80"/>
                </a:solidFill>
                <a:latin typeface="Arial Black"/>
              </a:rPr>
              <a:t>Peu servir de si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mb dir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47640" y="134136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80"/>
                </a:solidFill>
                <a:latin typeface="Arial Black"/>
              </a:rPr>
              <a:t>Intérieur  la cui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blinds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56000" y="27813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 Black"/>
              </a:rPr>
              <a:t>Les couronnes de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heel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03640" y="2637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 Black"/>
              </a:rPr>
              <a:t>Le bol pour le ro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r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0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59280" y="364500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7c80"/>
                </a:solidFill>
                <a:latin typeface="Arial Black"/>
              </a:rPr>
              <a:t>La vaiss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4220720" y="2349360"/>
            <a:ext cx="598680" cy="598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9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71640" y="170028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7c80"/>
                </a:solidFill>
                <a:latin typeface="Arial Black"/>
              </a:rPr>
              <a:t>La banqu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heel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14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564000" y="119700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 Black"/>
              </a:rPr>
              <a:t>Les portes manteaux ne manque 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r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8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050920" y="119700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 Black"/>
              </a:rPr>
              <a:t>Le chien be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9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5791320" y="-4343400"/>
            <a:ext cx="20726640" cy="15544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050920" y="33336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7c80"/>
                </a:solidFill>
                <a:latin typeface="Arial Black"/>
              </a:rPr>
              <a:t>Le point d’eau dans l’e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l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8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6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16360" y="54936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 Black"/>
              </a:rPr>
              <a:t>Pour scier le b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140000" y="1197000"/>
            <a:ext cx="360360" cy="194472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ull dir="lu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2658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411280" y="333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ff33"/>
                </a:solidFill>
                <a:latin typeface="Arial Black"/>
              </a:rPr>
              <a:t>Son occupation couper du b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blinds dir="ver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0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19272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651640" y="1773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48000" y="3357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7c80"/>
                </a:solidFill>
                <a:latin typeface="Arial Black"/>
              </a:rPr>
              <a:t>A quoi pense t’i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heel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51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7c80"/>
                </a:solidFill>
                <a:latin typeface="Arial Black"/>
              </a:rPr>
              <a:t>Monsieur pierre Pizot 81 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l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227640" y="54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 Black"/>
              </a:rPr>
              <a:t>Le chien gu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724000" y="1341360"/>
            <a:ext cx="1295640" cy="358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124000" y="357336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7c80"/>
                </a:solidFill>
                <a:latin typeface="Arial Black"/>
              </a:rPr>
              <a:t>Le chien de ga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47640" y="558972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Arial Black"/>
              </a:rPr>
              <a:t>Chaudron pour la l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lu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56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292720" y="371628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7c80"/>
                </a:solidFill>
                <a:latin typeface="Arial Black"/>
              </a:rPr>
              <a:t>Le jard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heel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427640" y="6922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7c80"/>
                </a:solidFill>
                <a:latin typeface="Arial Black"/>
              </a:rPr>
              <a:t>La ferme et les jard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in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9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66600" y="0"/>
            <a:ext cx="9210600" cy="6908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427640" y="54936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7c80"/>
                </a:solidFill>
                <a:latin typeface="Arial Black"/>
              </a:rPr>
              <a:t>Ici la vie est pa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5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748560" y="1052640"/>
            <a:ext cx="192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00720" y="836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33"/>
                </a:solidFill>
                <a:latin typeface="Arial Black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95640" y="206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 Black"/>
              </a:rPr>
              <a:t>La visite se ter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heel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3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92360" y="1557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80"/>
                </a:solidFill>
                <a:latin typeface="Arial Black"/>
              </a:rPr>
              <a:t>Le poê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72000" y="4762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80"/>
                </a:solidFill>
                <a:latin typeface="Arial Black"/>
              </a:rPr>
              <a:t>Le lit pla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508720" y="907920"/>
            <a:ext cx="503280" cy="10810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hecker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43280" y="40464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80"/>
                </a:solidFill>
                <a:latin typeface="Arial Black"/>
              </a:rPr>
              <a:t>Son vaisse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l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 rot="19758600">
            <a:off x="684000" y="2421000"/>
            <a:ext cx="37828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7c8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il nous fait voir ses photos</a:t>
            </a:r>
            <a:endParaRPr b="0" lang="en-US" sz="2400" spc="1" strike="noStrike">
              <a:ln w="9360">
                <a:solidFill>
                  <a:srgbClr val="ff7c8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</p:txBody>
      </p:sp>
    </p:spTree>
  </p:cSld>
  <p:transition spd="slow" advTm="8000">
    <p:cover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260280"/>
            <a:ext cx="33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7c80"/>
                </a:solidFill>
                <a:latin typeface="Arial Black"/>
              </a:rPr>
              <a:t>Beaucoup de n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l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56000" y="148428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99cc00"/>
                </a:solidFill>
                <a:latin typeface="Arial Black"/>
              </a:rPr>
              <a:t> </a:t>
            </a:r>
            <a:r>
              <a:rPr b="1" i="1" lang="fr-FR" sz="3200" spc="-1" strike="noStrike">
                <a:solidFill>
                  <a:srgbClr val="99cc00"/>
                </a:solidFill>
                <a:latin typeface="Arial Black"/>
              </a:rPr>
              <a:t>l’etab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268360" y="2205000"/>
            <a:ext cx="1872000" cy="251928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heel spokes="1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7:29:51Z</dcterms:created>
  <dc:creator>Utilisateur</dc:creator>
  <dc:description/>
  <dc:language>en-US</dc:language>
  <cp:lastModifiedBy>Utilisateur</cp:lastModifiedBy>
  <dcterms:modified xsi:type="dcterms:W3CDTF">2010-02-04T18:27:54Z</dcterms:modified>
  <cp:revision>7</cp:revision>
  <dc:subject/>
  <dc:title>Diapositive 1</dc:title>
</cp:coreProperties>
</file>