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DEC-CC99-447C-98D2-1C47800E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26E-0E54-4947-B25A-AFE4787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8EC-8D0C-4B9C-A583-A7EB5E28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F64-1A1A-4968-973C-BCD01723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CFF-58E7-45EE-BE59-CA3D2A5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DAD-9DBF-45BA-A115-B68A3A4A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936-8514-4EB2-927B-B3EFBAB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AA2-AC52-45B9-89E7-A90593AD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59D-1FE0-4AEF-8BC1-C49FC1B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B56-6DCE-422D-A505-C685751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3AE-6CA4-49AE-819C-EEAA5BE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2D5-7CF0-4143-8FD3-5006C68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5C6-7178-4AF8-B07F-B738C95632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47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7c80"/>
                </a:solidFill>
                <a:latin typeface="Arial Black"/>
              </a:rPr>
              <a:t>La ferme de monsieur Piz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941440" y="2781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3320" y="105264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7c80"/>
                </a:solidFill>
                <a:latin typeface="Arial Black"/>
              </a:rPr>
              <a:t>Alt 138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3280" y="1197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 Black"/>
              </a:rPr>
              <a:t>Treuil pour monter les mar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1700280"/>
            <a:ext cx="144360" cy="288108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in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00720" y="3357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80"/>
                </a:solidFill>
                <a:latin typeface="Arial Black"/>
              </a:rPr>
              <a:t>Que porte t’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48360" y="4005360"/>
            <a:ext cx="1944720" cy="18000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3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67280" y="765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Les v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 Black"/>
              </a:rPr>
              <a:t>Perrier ou 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620640"/>
            <a:ext cx="936720" cy="208764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765000"/>
            <a:ext cx="6481800" cy="43196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40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C’est bien le 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51280" y="40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 cou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8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836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chemi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3280" y="-603360"/>
            <a:ext cx="7686360" cy="746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5640" y="333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e0e3"/>
                </a:solidFill>
                <a:latin typeface="Arial Black"/>
              </a:rPr>
              <a:t>La sou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692280"/>
            <a:ext cx="1224000" cy="122400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206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99ff66"/>
                </a:solidFill>
                <a:latin typeface="Arial Black"/>
              </a:rPr>
              <a:t> </a:t>
            </a:r>
            <a:r>
              <a:rPr b="1" i="1" lang="fr-FR" sz="2400" spc="-1" strike="noStrike">
                <a:solidFill>
                  <a:srgbClr val="99ff66"/>
                </a:solidFill>
                <a:latin typeface="Arial Black"/>
              </a:rPr>
              <a:t>l’et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187280" y="2708280"/>
            <a:ext cx="720720" cy="64944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32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40360" y="3068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7c80"/>
                </a:solidFill>
                <a:latin typeface="Arial Black"/>
              </a:rPr>
              <a:t>Peu servir de si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1341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Intérieur  la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56000" y="2781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s couronnes de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 Black"/>
              </a:rPr>
              <a:t>Le bol pour le 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59280" y="3645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vaiss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220720" y="2349360"/>
            <a:ext cx="598680" cy="59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1700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banqu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64000" y="1197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s portes manteaux ne manque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0920" y="119700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 chien b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5791320" y="-4343400"/>
            <a:ext cx="20726640" cy="15544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0920" y="333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7c80"/>
                </a:solidFill>
                <a:latin typeface="Arial Black"/>
              </a:rPr>
              <a:t>Le point d’eau dans l’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549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Pour scier l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40000" y="1197000"/>
            <a:ext cx="360360" cy="194472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ll dir="l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2658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11280" y="33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Arial Black"/>
              </a:rPr>
              <a:t>Son occupation couper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blinds dir="ver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651640" y="177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 Black"/>
              </a:rPr>
              <a:t>A quoi pense t’i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7c80"/>
                </a:solidFill>
                <a:latin typeface="Arial Black"/>
              </a:rPr>
              <a:t>Monsieur pierre Pizot 81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227640" y="54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 chien gu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724000" y="1341360"/>
            <a:ext cx="1295640" cy="358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24000" y="3573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e chien de g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5589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Arial Black"/>
              </a:rPr>
              <a:t>Chaudron pour la l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6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92720" y="3716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e ja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27640" y="692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ferme et les jard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in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6600" y="0"/>
            <a:ext cx="9210600" cy="690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427640" y="5493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Ici la vie est pa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48560" y="1052640"/>
            <a:ext cx="192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83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Arial Black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206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 Black"/>
              </a:rPr>
              <a:t>La visite se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9236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Le poê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7200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Le lit pla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508720" y="907920"/>
            <a:ext cx="503280" cy="108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43280" y="40464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Son vais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19758600">
            <a:off x="684000" y="2421000"/>
            <a:ext cx="3782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il nous fait voir ses photos</a:t>
            </a:r>
            <a:endParaRPr b="0" lang="en-US" sz="2400" spc="1" strike="noStrike">
              <a:ln w="9360">
                <a:solidFill>
                  <a:srgbClr val="ff7c8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cover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6028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Beaucoup de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56000" y="1484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1" i="1" lang="fr-FR" sz="3200" spc="-1" strike="noStrike">
                <a:solidFill>
                  <a:srgbClr val="99cc00"/>
                </a:solidFill>
                <a:latin typeface="Arial Black"/>
              </a:rPr>
              <a:t>l’etab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68360" y="2205000"/>
            <a:ext cx="1872000" cy="25192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1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7:29:51Z</dcterms:created>
  <dc:creator>Utilisateur</dc:creator>
  <dc:description/>
  <dc:language>en-US</dc:language>
  <cp:lastModifiedBy>Utilisateur</cp:lastModifiedBy>
  <dcterms:modified xsi:type="dcterms:W3CDTF">2010-02-04T18:27:54Z</dcterms:modified>
  <cp:revision>7</cp:revision>
  <dc:subject/>
  <dc:title>Diapositive 1</dc:title>
</cp:coreProperties>
</file>