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drumroll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145A-7DA1-49DD-AE9D-9641EE556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D51E-A68F-48CD-8626-7EBC6F0AF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47F7-88AE-475A-91CD-67615958A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2BA0-7606-4D7E-AABB-DBF0BFEFE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4158B-34B4-4E19-B408-48C8B5735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F40CF-9D69-45CE-AE74-76B21ECAC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EDCD0-31AE-48FA-A3DC-056A942C8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E075C-5271-4114-A540-483AF570F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23CB6-D6CC-4469-8FA9-1C514563B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B96C5-8667-41E2-AC79-546981B16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4B41A-A428-4F5B-BE06-8A9C836E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4D3C-391B-427A-AC7A-D14DF8C49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89618-54B1-405A-B4CD-83DAE9DC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4A93B-CC36-446B-AAA1-84873667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9F098-CAEE-410E-9623-D237051E7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8E3EB-BBA1-4D36-9E30-038DC5D5C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3FABB-971A-468E-BB09-15EBECDA7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F839-BE9A-43E9-A201-5F33F4940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5E8A-4DD1-44FA-8D8F-3A5CBF080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5ABC-B8B0-4369-A122-E924DD0CE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E3CB-2300-4776-ACAD-53996D4FC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6233-AF8A-466A-B8FB-15435738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5DD9-E691-4C0E-8935-E6D5687E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1D8F-9DD0-4D9C-B2AA-DE9FA65F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E8460-2791-44F8-BE98-FAB8C5FCD617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B7E5C-6254-4FA5-BAA1-2973B1BBB45E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b7"/>
                </a:solidFill>
                <a:latin typeface="Monotype Corsiva"/>
              </a:rPr>
              <a:t>THE SECRET OF FROGS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700360" y="2565360"/>
            <a:ext cx="37083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Monotype Corsiva"/>
              </a:rPr>
              <a:t>Surely many of you must have asked yourselves this ques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Monotype Corsiva"/>
              </a:rPr>
              <a:t>¿Why do Frogs jump so much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556000" y="2205000"/>
            <a:ext cx="435924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Monotype Corsiva"/>
              </a:rPr>
              <a:t>After years of investigation we have the answer …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846520" y="393840"/>
            <a:ext cx="3609720" cy="5553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1908000" y="623736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" dur="500" fill="hold"/>
                                        <p:tgtEl>
                                          <p:spTgt spid="1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5T09:05:03Z</dcterms:created>
  <dc:creator/>
  <dc:description/>
  <dc:language>en-US</dc:language>
  <cp:lastModifiedBy>Smets</cp:lastModifiedBy>
  <dcterms:modified xsi:type="dcterms:W3CDTF">2008-10-02T03:44:29Z</dcterms:modified>
  <cp:revision>7</cp:revision>
  <dc:subject/>
  <dc:title>THE SECRET OF FROGS</dc:title>
</cp:coreProperties>
</file>