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C0A-CEB4-455C-9261-AC6DA21B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ED4-9B19-42A7-A55F-36E787A2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751-8E88-48A2-9EFF-3DDF4AED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5A3-F059-46FC-9127-8313360A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E50B-BA27-4A39-A000-B7C35C6F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77E6-9044-42B8-8E16-E0F86AED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182D-A843-4EDA-9F85-966AFC72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A48B-89A7-4479-8580-566B4A5F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A78E-B0E7-4D56-9C18-CBAECAFE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FEE7-4537-4143-A735-5FAD2CE9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077E-E4D2-492D-8BD5-7D014F34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5FC-9DDB-48AC-900F-5E15C32E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CFE7-A826-4B59-8954-0F03F6AC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325D-2282-4604-AE28-BCA73804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A92C-EDEA-4837-AC70-B4F58B0F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2AD5-B772-4EB2-BB83-ACFD6943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0DFA-37D7-4B96-B2B5-7EE42638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6D3-5DA7-42C5-847E-97AB2DA3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0E9-2157-4390-8D72-FAD18357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49F-26BC-4675-8888-8852A1F8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E57-C41B-4B2B-826E-FCC0504D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64C-4E8F-4A0C-90EC-C421BCB9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06E-D0B4-462E-84BF-BE5B2A9A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021-E325-4660-BBAD-B4C700B8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5F4E-4E26-4643-A73F-6CF738AF716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39D9-9E4C-467E-A450-2EA7AC75E48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Monotype Corsiva"/>
              </a:rPr>
              <a:t>THE SECRET OF FROG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00360" y="2565360"/>
            <a:ext cx="37083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Monotype Corsiva"/>
              </a:rPr>
              <a:t>Surely many of you must have asked yourselves this ques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Monotype Corsiva"/>
              </a:rPr>
              <a:t>¿Why do Frogs jump so much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4359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Monotype Corsiva"/>
              </a:rPr>
              <a:t>After years of investigation we have the answer 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46520" y="393840"/>
            <a:ext cx="3609720" cy="5553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90800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9:05:03Z</dcterms:created>
  <dc:creator/>
  <dc:description/>
  <dc:language>en-US</dc:language>
  <cp:lastModifiedBy>Smets</cp:lastModifiedBy>
  <dcterms:modified xsi:type="dcterms:W3CDTF">2008-10-02T03:44:29Z</dcterms:modified>
  <cp:revision>7</cp:revision>
  <dc:subject/>
  <dc:title>THE SECRET OF FROGS</dc:title>
</cp:coreProperties>
</file>