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0.gif" ContentType="image/gif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5C34-BB9A-4E42-AFB9-EA00E9DA5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1583-7C14-4466-A3F8-EC2502B7D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331E-324B-4971-A3AC-F4792A3D5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0C63-E482-41E8-9C04-AC3CA618D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8AC2-A71C-4EA8-95F1-4BB094835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1278-CAE8-4196-BE8E-7CAD2D6F0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E144-2301-4832-A392-CD6EA3A8D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20C2-04EF-4A95-A0B8-7C35EFD23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38EC-5887-421B-ACFE-D02E37FCE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A08C-58A2-479B-806A-C23764C98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2845-74AD-49D7-B5A3-06894EC1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1DE4-62C0-40D4-98B0-F2AD818E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0B34B-1F17-48E0-8DD9-F27112D2C1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11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247760" y="0"/>
            <a:ext cx="591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123840"/>
            <a:ext cx="9144000" cy="66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7315200" cy="68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610480" cy="69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480960"/>
            <a:ext cx="914400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833400"/>
            <a:ext cx="9144000" cy="61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785880"/>
            <a:ext cx="9144000" cy="5157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1908000" y="6093000"/>
            <a:ext cx="5388120" cy="428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728640"/>
            <a:ext cx="9144000" cy="61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52480" y="0"/>
            <a:ext cx="5889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714240"/>
            <a:ext cx="914400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1357200"/>
            <a:ext cx="914400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771480"/>
            <a:ext cx="9144000" cy="60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814320"/>
            <a:ext cx="9144000" cy="60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7T12:15:47Z</dcterms:created>
  <dc:creator>Anton Nikolov</dc:creator>
  <dc:description/>
  <dc:language>en-US</dc:language>
  <cp:lastModifiedBy>Smets</cp:lastModifiedBy>
  <dcterms:modified xsi:type="dcterms:W3CDTF">2008-11-04T06:55:14Z</dcterms:modified>
  <cp:revision>2</cp:revision>
  <dc:subject/>
  <dc:title>Slide 1</dc:title>
</cp:coreProperties>
</file>