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B4F-5355-4433-A74F-2864DEFC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EC4-82F3-40DD-A94E-5A9F6887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8D5-4746-4AD4-8E2D-E36C8E80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6FC-8EE9-4E45-950F-B27E9ABC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903-0050-475F-B0F2-07B985B6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8C3-4346-4785-ABE1-47AB9BFC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269-1E7E-41B7-AD2D-D2AD0BEB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F0A-A97A-4FA5-848A-7498D6C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BC5-B733-4467-B466-A6208DEF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F01-7D78-4489-A85F-E899468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269-4A4C-4C1D-8A41-130E1C5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7B3-7269-47DE-B08F-0B0BE3F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A98C-9386-42AE-86DC-95F042FB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47760" y="0"/>
            <a:ext cx="59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73152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800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88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1432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2:15:47Z</dcterms:created>
  <dc:creator>Anton Nikolov</dc:creator>
  <dc:description/>
  <dc:language>en-US</dc:language>
  <cp:lastModifiedBy>Smets</cp:lastModifiedBy>
  <dcterms:modified xsi:type="dcterms:W3CDTF">2008-11-04T06:55:14Z</dcterms:modified>
  <cp:revision>2</cp:revision>
  <dc:subject/>
  <dc:title>Slide 1</dc:title>
</cp:coreProperties>
</file>