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1.gif" ContentType="image/gif"/>
  <Override PartName="/ppt/media/image3.wmf" ContentType="image/x-wmf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C7E9-5F49-4F8D-BD85-33D295A9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F2B-ED74-4116-AFA5-CC5CF2D6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97EC-6004-479C-A812-B2970C5F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115B-CBA8-4D1D-83F3-5A7D855C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CB48-7442-4737-8583-30F8B5C7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B7FA-1564-4DD4-A417-D2FE20E4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3326-BEFE-40C9-AE71-E5BD6711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9894-B569-4FEA-B6D2-166219BD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D624-A33A-4AC5-A682-E671CEF2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E69D-EAA2-4671-B8D3-14FA8DEA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D279-B9D4-4DF9-8B68-4A9BFF72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C5AD-6473-47C1-99C0-C084132F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FEEF-7B30-470A-84AF-033BF829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02AA-3173-4B48-BA86-81A8737D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ADF5-4F15-4563-AD91-8EC7159B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52EC-D0B2-48E2-9561-0676AB20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A960-CA6E-452C-8649-62397979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A3F7-5E33-4790-BD3F-3A6D0872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99B5-3852-4160-8D09-C99D538E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C8E3-0043-429B-B7F6-C2A05C48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AA3-96F0-4DD5-ABDE-5C94BE02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C758-4457-4970-B502-3757E9BC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6CA8-F083-4FCC-81DF-0AAC98F4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4724-0B37-4512-9F4F-ACB89AE9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9CB9-A715-48AC-AC6E-242A0DB828A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-228600" y="0"/>
            <a:ext cx="9009000" cy="1052640"/>
            <a:chOff x="-228600" y="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61920" y="108000"/>
              <a:ext cx="711360" cy="474840"/>
              <a:chOff x="61920" y="10800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61920" y="10800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44960" y="1080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185760" y="530280"/>
              <a:ext cx="737640" cy="474840"/>
              <a:chOff x="185760" y="53028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185760" y="53028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54400" y="5302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-228600" y="4572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644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7480" y="8222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1A24-47CE-4246-AE28-DC07F3DCE0D1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hyperlink" Target="http://www.sea.siemens.com/step/templates/" TargetMode="External"/><Relationship Id="rId4" Type="http://schemas.openxmlformats.org/officeDocument/2006/relationships/hyperlink" Target="http://www.sea.siemens.com/step/templates/" TargetMode="External"/><Relationship Id="rId5" Type="http://schemas.openxmlformats.org/officeDocument/2006/relationships/image" Target="../media/image20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plcs.com/" TargetMode="External"/><Relationship Id="rId2" Type="http://schemas.openxmlformats.org/officeDocument/2006/relationships/hyperlink" Target="http://www.sea.siemens.com/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tkne.com/" TargetMode="External"/><Relationship Id="rId2" Type="http://schemas.openxmlformats.org/officeDocument/2006/relationships/hyperlink" Target="http://www.tkne.com/vb" TargetMode="External"/><Relationship Id="rId3" Type="http://schemas.openxmlformats.org/officeDocument/2006/relationships/hyperlink" Target="mailto:webmaster@tkne.com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PLC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8360" y="2276640"/>
            <a:ext cx="3744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:tamerPL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مشرف التقنية الكهربائ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g_tamersalem@hotmail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g_tamersalem2003@yahoo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scan animation"/>
          <p:cNvPicPr/>
          <p:nvPr/>
        </p:nvPicPr>
        <p:blipFill>
          <a:blip r:embed="rId1"/>
          <a:stretch/>
        </p:blipFill>
        <p:spPr>
          <a:xfrm>
            <a:off x="228600" y="2400480"/>
            <a:ext cx="480060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267080" y="4600440"/>
          <a:ext cx="4638960" cy="225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4600440"/>
                    <a:ext cx="463896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 txBox="1"/>
          <p:nvPr/>
        </p:nvSpPr>
        <p:spPr>
          <a:xfrm>
            <a:off x="5364000" y="2602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log In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Cs works with continuous, or analog signals as well as discre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s are used to represent changing values such as speed, temperature, weight, and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range from 0-10 VDC or 4-20 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converts the analog signal to digital signal. Precision of value depends on the module(8, 12 bi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64000" y="2602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685800" y="2286000"/>
          <a:ext cx="777240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0"/>
                    <a:ext cx="777240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lication Example for Analog In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518160" y="47628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33720" y="1828800"/>
          <a:ext cx="4419360" cy="18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828800"/>
                    <a:ext cx="441936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lication Example for Analog In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77800" y="3809880"/>
          <a:ext cx="7986600" cy="27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7800" y="3809880"/>
                    <a:ext cx="79866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 txBox="1"/>
          <p:nvPr/>
        </p:nvSpPr>
        <p:spPr>
          <a:xfrm>
            <a:off x="6445080" y="26208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rete and Analog outpu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rete output module works like a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utputs converts the digital signal to the analog signal to control outside devices such as solenoid valves, servo motor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029200" y="4191120"/>
          <a:ext cx="3814920" cy="24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4191120"/>
                    <a:ext cx="3814920" cy="24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 txBox="1"/>
          <p:nvPr/>
        </p:nvSpPr>
        <p:spPr>
          <a:xfrm>
            <a:off x="1403280" y="479736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239640" y="20178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true when input status is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true when input status is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ils represents relays that are energized when power flows to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various instr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Symb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14400" y="2286000"/>
          <a:ext cx="149544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149544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914400" y="3429000"/>
          <a:ext cx="151452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151452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066680" y="4495680"/>
          <a:ext cx="1076400" cy="55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4495680"/>
                    <a:ext cx="10764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838080" y="5105520"/>
          <a:ext cx="1590840" cy="134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105520"/>
                    <a:ext cx="1590840" cy="13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 txBox="1"/>
          <p:nvPr/>
        </p:nvSpPr>
        <p:spPr>
          <a:xfrm>
            <a:off x="6373800" y="2602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dder Dia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rung or network on a ladder represents a logical oper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s of a series of inputs, timers, counters, relays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219320" y="4343400"/>
          <a:ext cx="47242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343400"/>
                    <a:ext cx="47242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 txBox="1"/>
          <p:nvPr/>
        </p:nvSpPr>
        <p:spPr>
          <a:xfrm>
            <a:off x="6445080" y="26208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tru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instructions: Found in most programs including timer, counter, math, logical, increment/decrement/invert, move, and block instru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Instructions are used to manipulate data. They include shift, table, find, conversion, for/next, and real-time instruc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-speed instructions allow for events and interrupts to occur independently of the PLC scan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64000" y="26208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4324320" y="4819680"/>
          <a:ext cx="481968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4320" y="4819680"/>
                    <a:ext cx="481968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80880" y="2089080"/>
          <a:ext cx="4191120" cy="267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89080"/>
                    <a:ext cx="419112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for Timer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1981080"/>
            <a:ext cx="312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used with traffic lights, for example, to control the length of time between signal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229440" y="260280"/>
            <a:ext cx="2590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5600880" y="4295880"/>
          <a:ext cx="3543120" cy="25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0880" y="4295880"/>
                    <a:ext cx="354312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two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he PLCs in the plant can be connected via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C unit can be reached remotely to reprogram or for diagnostic purpos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llected by PLC can be transferred to any computer in the facil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64000" y="2602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EMENS S7-200 micro PL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716120" y="2084400"/>
          <a:ext cx="5410080" cy="27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2084400"/>
                    <a:ext cx="5410080" cy="27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>
            <a:hlinkClick r:id="rId3"/>
          </p:cNvPr>
          <p:cNvSpPr/>
          <p:nvPr/>
        </p:nvSpPr>
        <p:spPr>
          <a:xfrm>
            <a:off x="231444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lc3_1_6_r2_c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7040" y="5283360"/>
            <a:ext cx="4314960" cy="157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4800600" y="4876920"/>
          <a:ext cx="1790640" cy="1581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4876920"/>
                    <a:ext cx="179064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 txBox="1"/>
          <p:nvPr/>
        </p:nvSpPr>
        <p:spPr>
          <a:xfrm>
            <a:off x="179280" y="220500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PLC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y of PL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antages of PL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of PL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/O el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629400" y="4191120"/>
            <a:ext cx="1876320" cy="1962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5364000" y="2602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other Connection possi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182600" y="2063880"/>
          <a:ext cx="2865600" cy="28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2063880"/>
                    <a:ext cx="2865600" cy="28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114800" y="1905120"/>
          <a:ext cx="4800600" cy="196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905120"/>
                    <a:ext cx="480060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343400" y="4038480"/>
          <a:ext cx="4381560" cy="23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4038480"/>
                    <a:ext cx="438156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 txBox="1"/>
          <p:nvPr/>
        </p:nvSpPr>
        <p:spPr>
          <a:xfrm>
            <a:off x="1116000" y="508644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ementation T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desired functional description of th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iew possible control methods and optimize the process oper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wchart the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 everything necess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: E-stop switch must be hard-wired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445080" y="26208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lcs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sea.siemens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yan, L.E. and Bryan E.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rogrammable Controllers Theory and Implement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 Industrial Text Co. Publication., Atlanta, 1988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64000" y="2602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SA" sz="4000" spc="-1" strike="noStrike">
                <a:solidFill>
                  <a:srgbClr val="333399"/>
                </a:solidFill>
                <a:latin typeface="Tahoma"/>
                <a:cs typeface="Tahoma"/>
              </a:rPr>
              <a:t>اعداد مشرف قسم التقنية الكهربائية</a:t>
            </a:r>
            <a:br>
              <a:rPr sz="4000"/>
            </a:br>
            <a:r>
              <a:rPr b="0" lang="ar-SA" sz="4000" spc="-1" strike="noStrike">
                <a:solidFill>
                  <a:srgbClr val="333399"/>
                </a:solidFill>
                <a:latin typeface="Tahoma"/>
                <a:cs typeface="Tahoma"/>
              </a:rPr>
              <a:t>المهندس: تام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اذا أردت المزيد والمزيد من المواضيع التقنية يمكن الدخول الى منتديات التقنية عبر هذه الروابط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موقع التقنية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1"/>
              </a:rPr>
              <a:t>http://www.tkn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منتديات التقنية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2"/>
              </a:rPr>
              <a:t>http://www.tkne.com/v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لمراسلتنا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3"/>
              </a:rPr>
              <a:t>webmaster@tkn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PLC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grammable controller, formally called the programmable logic controller (PLC) can be defined as a solid state device member of the computer famil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capable of storing instruction to implement control functions such as sequencing, timing, counting, arithmetic, data manipulation and communication to control industrial machines and proces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64000" y="2602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y of PL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criteria for the first programmable controller were specified in 1968 by the Hydromantic division of the General Motors Cor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0’s Communication abilities app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’s Standardization on communication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0’s Standardizations on programm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0’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64000" y="2602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or to PL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ors and relays hard-wired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rcuit first had to be designed and drawn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 were specified and install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ician would then wire it all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64000" y="2602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5486400" y="4038480"/>
          <a:ext cx="345744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4038480"/>
                    <a:ext cx="34574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C can perform the same task as hard-wired devi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s between field devices and relay contacts take place in the P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is less ex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more complex fun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PL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64000" y="2602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296040" y="3857760"/>
          <a:ext cx="2847960" cy="30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96040" y="3857760"/>
                    <a:ext cx="284796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vantages of PL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ter and less costly duplication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and faster system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d diagnostic and overrid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ly available diagno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 docu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229440" y="260280"/>
            <a:ext cx="2590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6324480" y="4410000"/>
          <a:ext cx="254340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4410000"/>
                    <a:ext cx="25434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PLC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 from field de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rete, analog in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ion of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s, counters, data manip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 to the field de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rete, analog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C Sca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64000" y="2602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5867280" y="4095720"/>
          <a:ext cx="3276720" cy="27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095720"/>
                    <a:ext cx="32767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class of input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rete type input modules recognize either ON or OF Condi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otally isolat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he CP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-230 Volt AC/D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TL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rete In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64000" y="260280"/>
            <a:ext cx="2590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رعا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KnE.C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08:41:59Z</dcterms:created>
  <dc:creator>Cheryl Schroeder</dc:creator>
  <dc:description/>
  <dc:language>en-US</dc:language>
  <cp:lastModifiedBy>منتديات التقنية</cp:lastModifiedBy>
  <dcterms:modified xsi:type="dcterms:W3CDTF">2004-08-06T17:49:33Z</dcterms:modified>
  <cp:revision>30</cp:revision>
  <dc:subject/>
  <dc:title>PLC</dc:title>
</cp:coreProperties>
</file>