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wmf" ContentType="image/x-wmf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4AB-F6F0-409B-BE58-8DD3B261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C30-727D-40D4-9C19-3EEB6459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BC9-C13A-4895-BED1-5767DBA5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D70-2F44-48A2-BB4C-10AD5AC8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12BE-4437-4493-B5FE-7D04404F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77F1-E269-44A7-98A0-8731ED5B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C9F0-DAF5-43B1-A9B8-1F56EC38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F6D5-7AEB-47D6-BAE6-2CC92A12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7BC1-ED69-4A89-A721-366C879D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FC56-FB4D-4EEC-A6D7-360F8FEF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FA4E-2A99-472D-ADBF-A66D1290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DF6-BD5F-437B-A183-B86FEAF9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CFEF-C67B-4542-B860-FD3B790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7A53-F28D-4906-AA90-FB946B84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FB77-E696-4BF1-8834-A115C864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8513-531A-47FF-8D56-3638435F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E8C9-F9D2-4E7E-B05B-017B5F9C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DD4-ADD2-4444-85E1-76ED945E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8AE-DC3D-4879-8BD5-0E836134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865-C4D0-4EB1-B507-B8C96109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6BE-98A7-407F-BFA7-C1439E6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0CD-6CE3-44CF-9026-9BECD1CC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36A-50FA-4F77-9A7A-B2EBAEF1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03F-2C21-44BD-98DE-710B1C05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96F3-BD4B-461E-9B87-47C31AF10C4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228600" y="0"/>
            <a:ext cx="9009000" cy="1052640"/>
            <a:chOff x="-228600" y="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61920" y="108000"/>
              <a:ext cx="711360" cy="474840"/>
              <a:chOff x="61920" y="10800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61920" y="1080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44960" y="108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185760" y="530280"/>
              <a:ext cx="737640" cy="474840"/>
              <a:chOff x="185760" y="53028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185760" y="5302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4400" y="530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-228600" y="457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644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7480" y="822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5061-D827-4563-8455-8F2E86329FD1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hyperlink" Target="http://www.sea.siemens.com/step/templates/" TargetMode="External"/><Relationship Id="rId4" Type="http://schemas.openxmlformats.org/officeDocument/2006/relationships/hyperlink" Target="http://www.sea.siemens.com/step/templates/" TargetMode="External"/><Relationship Id="rId5" Type="http://schemas.openxmlformats.org/officeDocument/2006/relationships/image" Target="../media/image2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lcs.com/" TargetMode="External"/><Relationship Id="rId2" Type="http://schemas.openxmlformats.org/officeDocument/2006/relationships/hyperlink" Target="http://www.sea.siemens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kne.com/" TargetMode="External"/><Relationship Id="rId2" Type="http://schemas.openxmlformats.org/officeDocument/2006/relationships/hyperlink" Target="http://www.tkne.com/vb" TargetMode="External"/><Relationship Id="rId3" Type="http://schemas.openxmlformats.org/officeDocument/2006/relationships/hyperlink" Target="mailto:webmaster@tkne.co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PLC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8360" y="2276640"/>
            <a:ext cx="3744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:tamerP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شرف التقنية الكهربائ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g_tamersalem@hotmail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g_tamersalem2003@yahoo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scan animation"/>
          <p:cNvPicPr/>
          <p:nvPr/>
        </p:nvPicPr>
        <p:blipFill>
          <a:blip r:embed="rId1"/>
          <a:stretch/>
        </p:blipFill>
        <p:spPr>
          <a:xfrm>
            <a:off x="228600" y="2400480"/>
            <a:ext cx="480060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267080" y="4600440"/>
          <a:ext cx="463896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4600440"/>
                    <a:ext cx="46389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og In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Cs works with continuous, or analog signals as well as discr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s are used to represent changing values such as speed, temperature, weight, and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range from 0-10 VDC or 4-20 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converts the analog signal to digital signal. Precision of value depends on the module(8, 12 bi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85800" y="2286000"/>
          <a:ext cx="77724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 Example for Analog In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18160" y="4762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33720" y="1828800"/>
          <a:ext cx="441936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828800"/>
                    <a:ext cx="441936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 Example for Analog In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77800" y="3809880"/>
          <a:ext cx="798660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800" y="3809880"/>
                    <a:ext cx="79866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 txBox="1"/>
          <p:nvPr/>
        </p:nvSpPr>
        <p:spPr>
          <a:xfrm>
            <a:off x="6445080" y="2620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rete and Analog outpu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ete output module works like a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utputs converts the digital signal to the analog signal to control outside devices such as solenoid valves, servo motor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29200" y="4191120"/>
          <a:ext cx="3814920" cy="24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191120"/>
                    <a:ext cx="381492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 txBox="1"/>
          <p:nvPr/>
        </p:nvSpPr>
        <p:spPr>
          <a:xfrm>
            <a:off x="1403280" y="479736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9640" y="2017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rue when input status is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rue when input status is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ils represents relays that are energized when power flows to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various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Symb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2286000"/>
          <a:ext cx="149544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14954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914400" y="3429000"/>
          <a:ext cx="151452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15145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066680" y="4495680"/>
          <a:ext cx="1076400" cy="5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495680"/>
                    <a:ext cx="1076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838080" y="5105520"/>
          <a:ext cx="1590840" cy="13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05520"/>
                    <a:ext cx="159084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 txBox="1"/>
          <p:nvPr/>
        </p:nvSpPr>
        <p:spPr>
          <a:xfrm>
            <a:off x="63738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dder 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rung or network on a ladder represents a logical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s of a series of inputs, timers, counters, relay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9320" y="4343400"/>
          <a:ext cx="4724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343400"/>
                    <a:ext cx="4724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 txBox="1"/>
          <p:nvPr/>
        </p:nvSpPr>
        <p:spPr>
          <a:xfrm>
            <a:off x="6445080" y="2620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instructions: Found in most programs including timer, counter, math, logical, increment/decrement/invert, move, and block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Instructions are used to manipulate data. They include shift, table, find, conversion, for/next, and real-time instru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speed instructions allow for events and interrupts to occur independently of the PLC scan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64000" y="2620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324320" y="4819680"/>
          <a:ext cx="481968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4819680"/>
                    <a:ext cx="48196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80880" y="2089080"/>
          <a:ext cx="4191120" cy="26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89080"/>
                    <a:ext cx="419112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for Time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1981080"/>
            <a:ext cx="312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used with traffic lights, for example, to control the length of time between sign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29440" y="2602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600880" y="4295880"/>
          <a:ext cx="354312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0880" y="4295880"/>
                    <a:ext cx="35431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he PLCs in the plant can be connected via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C unit can be reached remotely to reprogram or for diagnostic purpo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llected by PLC can be transferred to any computer in the fac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EMENS S7-200 micro P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16120" y="2084400"/>
          <a:ext cx="541008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084400"/>
                    <a:ext cx="541008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>
            <a:hlinkClick r:id="rId3"/>
          </p:cNvPr>
          <p:cNvSpPr/>
          <p:nvPr/>
        </p:nvSpPr>
        <p:spPr>
          <a:xfrm>
            <a:off x="23144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lc3_1_6_r2_c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040" y="5283360"/>
            <a:ext cx="4314960" cy="157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4800600" y="4876920"/>
          <a:ext cx="1790640" cy="158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4876920"/>
                    <a:ext cx="17906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 txBox="1"/>
          <p:nvPr/>
        </p:nvSpPr>
        <p:spPr>
          <a:xfrm>
            <a:off x="179280" y="220500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PL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of P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tages of P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of P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1876320" cy="196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other Connection pos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82600" y="2063880"/>
          <a:ext cx="2865600" cy="28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63880"/>
                    <a:ext cx="286560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114800" y="1905120"/>
          <a:ext cx="4800600" cy="19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4800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343400" y="4038480"/>
          <a:ext cx="4381560" cy="23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038480"/>
                    <a:ext cx="438156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 txBox="1"/>
          <p:nvPr/>
        </p:nvSpPr>
        <p:spPr>
          <a:xfrm>
            <a:off x="1116000" y="508644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ation 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desired functional description of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possible control methods and optimize the process oper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chart the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everything necess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: E-stop switch must be hard-wired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445080" y="2620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lc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ea.siemen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yan, L.E. and Bryan E.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ogrammable Controllers Theory and Implement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 Industrial Text Co. Publication., Atlanta, 198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333399"/>
                </a:solidFill>
                <a:latin typeface="Tahoma"/>
                <a:cs typeface="Tahoma"/>
              </a:rPr>
              <a:t>اعداد مشرف قسم التقنية الكهربائية</a:t>
            </a:r>
            <a:br>
              <a:rPr sz="4000"/>
            </a:br>
            <a:r>
              <a:rPr b="0" lang="ar-SA" sz="4000" spc="-1" strike="noStrike">
                <a:solidFill>
                  <a:srgbClr val="333399"/>
                </a:solidFill>
                <a:latin typeface="Tahoma"/>
                <a:cs typeface="Tahoma"/>
              </a:rPr>
              <a:t>المهندس: تام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ذا أردت المزيد والمزيد من المواضيع التقنية يمكن الدخول الى منتديات التقنية عبر هذه الروابط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وقع التقنية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http://www.tkn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نتديات التقنية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www.tkne.com/v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لمراسلتنا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3"/>
              </a:rPr>
              <a:t>webmaster@tkn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PLC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grammable controller, formally called the programmable logic controller (PLC) can be defined as a solid state device member of the computer famil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capable of storing instruction to implement control functions such as sequencing, timing, counting, arithmetic, data manipulation and communication to control industrial machines and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P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criteria for the first programmable controller were specified in 1968 by the Hydromantic division of the General Motors Cor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0’s Communication abilities app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’s Standardization on communication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0’s Standardizations on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’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or to PL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ors and relays hard-wired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it first had to be designed and drawn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 were specified and instal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ian would then wire it all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486400" y="4038480"/>
          <a:ext cx="34574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4038480"/>
                    <a:ext cx="34574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C can perform the same task as hard-wired de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s between field devices and relay contacts take place in the P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is less ex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more complex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P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296040" y="3857760"/>
          <a:ext cx="284796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96040" y="3857760"/>
                    <a:ext cx="284796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tages of PL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and less costly duplication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and faster system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d diagnostic and overrid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y available diagno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229440" y="2602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6324480" y="4410000"/>
          <a:ext cx="25434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410000"/>
                    <a:ext cx="25434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PLC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from field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ete, analog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on of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s, counters, data manip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to the field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ete, analog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C Sc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867280" y="4095720"/>
          <a:ext cx="327672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095720"/>
                    <a:ext cx="32767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class of input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type input modules recognize either ON or OF Condi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otally isola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he CP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-230 Volt AC/D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TL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rete In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08:41:59Z</dcterms:created>
  <dc:creator>Cheryl Schroeder</dc:creator>
  <dc:description/>
  <dc:language>en-US</dc:language>
  <cp:lastModifiedBy>منتديات التقنية</cp:lastModifiedBy>
  <dcterms:modified xsi:type="dcterms:W3CDTF">2004-08-06T17:49:33Z</dcterms:modified>
  <cp:revision>30</cp:revision>
  <dc:subject/>
  <dc:title>PLC</dc:title>
</cp:coreProperties>
</file>