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C8C7-EC75-42B5-A8B7-87785BDD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41EC-E095-49CB-9E8B-C1982038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11C0-2C91-4B95-A941-5EDDD0FBF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D408-D991-4A64-B435-62020D7EA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D352-0881-40BF-9126-22609945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FFE8-358B-438B-846F-E372CACC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9EF8-443A-48D7-99B7-833BE820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34A5-098D-4D69-A68A-60120144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6E88-1674-4751-91D4-834951E0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E051-A1D9-45FF-89DB-FE908214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85FE-7AFB-4BCE-80A4-8BDEB423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269F-BE66-43F3-8300-39A0E74E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9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9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836D-E25E-4608-B6AC-AEA581B83F3D}" type="slidenum">
              <a:rPr b="0" lang="ko-KR" sz="9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245520" y="477036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630F-F0AE-458E-A9A4-3A0EF5BF3F85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찬425-1-1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44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47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50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53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찬425-1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57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60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63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66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찬425-2-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70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73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76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79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찬425-2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83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86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89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92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찬425-3-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96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99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102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105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찬425-3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109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112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115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118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찬425-4-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122" name="Picture 6" descr="button21"/>
            <p:cNvPicPr/>
            <p:nvPr/>
          </p:nvPicPr>
          <p:blipFill>
            <a:blip r:embed="rId2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125" name="Picture 9" descr="button21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128" name="Picture 12" descr="button21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131" name="Picture 15" descr="button21"/>
            <p:cNvPicPr/>
            <p:nvPr/>
          </p:nvPicPr>
          <p:blipFill>
            <a:blip r:embed="rId9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7" descr="찬425-4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135" name="Picture 6" descr="button21"/>
            <p:cNvPicPr/>
            <p:nvPr/>
          </p:nvPicPr>
          <p:blipFill>
            <a:blip r:embed="rId2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138" name="Picture 9" descr="button21"/>
            <p:cNvPicPr/>
            <p:nvPr/>
          </p:nvPicPr>
          <p:blipFill>
            <a:blip r:embed="rId3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141" name="Picture 12" descr="button21"/>
            <p:cNvPicPr/>
            <p:nvPr/>
          </p:nvPicPr>
          <p:blipFill>
            <a:blip r:embed="rId4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144" name="Picture 15" descr="button21"/>
            <p:cNvPicPr/>
            <p:nvPr/>
          </p:nvPicPr>
          <p:blipFill>
            <a:blip r:embed="rId5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6:30:37Z</dcterms:created>
  <dc:creator>최봉수</dc:creator>
  <dc:description/>
  <dc:language>en-US</dc:language>
  <cp:lastModifiedBy>맛있다 군만두</cp:lastModifiedBy>
  <dcterms:modified xsi:type="dcterms:W3CDTF">2023-07-13T09:57:55Z</dcterms:modified>
  <cp:revision>6</cp:revision>
  <dc:subject/>
  <dc:title>슬라이드 1</dc:title>
</cp:coreProperties>
</file>