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DF9E-A545-4B92-A814-FC05A96A7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0866-335E-455E-A002-9F64F2F8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731B-EFF6-4C4A-B0CF-223A9398C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2318-6D3F-4358-B822-A1A539EDD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AE48-AE12-465C-ADDD-B359E5803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615A-B043-4EE9-B805-0ED3BB39D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911D-C43A-4697-ACB5-666DE97D1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1B9E-4288-4977-9C54-F2C4044CA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5FDD-37D9-4836-8211-08FAF33C6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8CA2-B913-4596-9429-436EA110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B50C-63CA-4AD9-A678-A57219FC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D0D9-5F2A-4B6F-866D-4DCBE387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9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9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84351-559C-49F7-873A-C1D4EDFE1346}" type="slidenum">
              <a:rPr b="0" lang="ko-KR" sz="9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245520" y="477036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24D40-9B18-4B7E-8C16-A11515D44C4A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찬425-1-1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8396280" y="4732200"/>
            <a:ext cx="423720" cy="346680"/>
            <a:chOff x="8396280" y="4732200"/>
            <a:chExt cx="423720" cy="346680"/>
          </a:xfrm>
        </p:grpSpPr>
        <p:pic>
          <p:nvPicPr>
            <p:cNvPr id="44" name="Picture 6" descr="button21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3962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85251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7961400" y="4732200"/>
            <a:ext cx="423720" cy="346680"/>
            <a:chOff x="7961400" y="4732200"/>
            <a:chExt cx="423720" cy="346680"/>
          </a:xfrm>
        </p:grpSpPr>
        <p:pic>
          <p:nvPicPr>
            <p:cNvPr id="47" name="Picture 9" descr="button21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96140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809028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7526160" y="4732200"/>
            <a:ext cx="423720" cy="346680"/>
            <a:chOff x="7526160" y="4732200"/>
            <a:chExt cx="423720" cy="346680"/>
          </a:xfrm>
        </p:grpSpPr>
        <p:pic>
          <p:nvPicPr>
            <p:cNvPr id="50" name="Picture 12" descr="button21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752616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765504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7093080" y="4732200"/>
            <a:ext cx="423720" cy="346680"/>
            <a:chOff x="7093080" y="4732200"/>
            <a:chExt cx="423720" cy="346680"/>
          </a:xfrm>
        </p:grpSpPr>
        <p:pic>
          <p:nvPicPr>
            <p:cNvPr id="53" name="Picture 15" descr="button21"/>
            <p:cNvPicPr/>
            <p:nvPr/>
          </p:nvPicPr>
          <p:blipFill>
            <a:blip r:embed="rId11"/>
            <a:stretch/>
          </p:blipFill>
          <p:spPr>
            <a:xfrm>
              <a:off x="70930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72219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찬425-1-2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8396280" y="4732200"/>
            <a:ext cx="423720" cy="346680"/>
            <a:chOff x="8396280" y="4732200"/>
            <a:chExt cx="423720" cy="346680"/>
          </a:xfrm>
        </p:grpSpPr>
        <p:pic>
          <p:nvPicPr>
            <p:cNvPr id="57" name="Picture 6" descr="button21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3962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4" action="ppaction://hlinksldjump"/>
            </p:cNvPr>
            <p:cNvSpPr/>
            <p:nvPr/>
          </p:nvSpPr>
          <p:spPr>
            <a:xfrm>
              <a:off x="85251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7961400" y="4732200"/>
            <a:ext cx="423720" cy="346680"/>
            <a:chOff x="7961400" y="4732200"/>
            <a:chExt cx="423720" cy="346680"/>
          </a:xfrm>
        </p:grpSpPr>
        <p:pic>
          <p:nvPicPr>
            <p:cNvPr id="60" name="Picture 9" descr="button21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96140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7" action="ppaction://hlinksldjump"/>
            </p:cNvPr>
            <p:cNvSpPr/>
            <p:nvPr/>
          </p:nvSpPr>
          <p:spPr>
            <a:xfrm>
              <a:off x="809028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7526160" y="4732200"/>
            <a:ext cx="423720" cy="346680"/>
            <a:chOff x="7526160" y="4732200"/>
            <a:chExt cx="423720" cy="346680"/>
          </a:xfrm>
        </p:grpSpPr>
        <p:pic>
          <p:nvPicPr>
            <p:cNvPr id="63" name="Picture 12" descr="button21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752616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0" action="ppaction://hlinksldjump"/>
            </p:cNvPr>
            <p:cNvSpPr/>
            <p:nvPr/>
          </p:nvSpPr>
          <p:spPr>
            <a:xfrm>
              <a:off x="765504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7093080" y="4732200"/>
            <a:ext cx="423720" cy="346680"/>
            <a:chOff x="7093080" y="4732200"/>
            <a:chExt cx="423720" cy="346680"/>
          </a:xfrm>
        </p:grpSpPr>
        <p:pic>
          <p:nvPicPr>
            <p:cNvPr id="66" name="Picture 15" descr="button21"/>
            <p:cNvPicPr/>
            <p:nvPr/>
          </p:nvPicPr>
          <p:blipFill>
            <a:blip r:embed="rId11"/>
            <a:stretch/>
          </p:blipFill>
          <p:spPr>
            <a:xfrm>
              <a:off x="70930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2" action="ppaction://hlinksldjump"/>
            </p:cNvPr>
            <p:cNvSpPr/>
            <p:nvPr/>
          </p:nvSpPr>
          <p:spPr>
            <a:xfrm>
              <a:off x="72219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찬425-2-1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8396280" y="4732200"/>
            <a:ext cx="423720" cy="346680"/>
            <a:chOff x="8396280" y="4732200"/>
            <a:chExt cx="423720" cy="346680"/>
          </a:xfrm>
        </p:grpSpPr>
        <p:pic>
          <p:nvPicPr>
            <p:cNvPr id="70" name="Picture 6" descr="button21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3962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4" action="ppaction://hlinksldjump"/>
            </p:cNvPr>
            <p:cNvSpPr/>
            <p:nvPr/>
          </p:nvSpPr>
          <p:spPr>
            <a:xfrm>
              <a:off x="85251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7961400" y="4732200"/>
            <a:ext cx="423720" cy="346680"/>
            <a:chOff x="7961400" y="4732200"/>
            <a:chExt cx="423720" cy="346680"/>
          </a:xfrm>
        </p:grpSpPr>
        <p:pic>
          <p:nvPicPr>
            <p:cNvPr id="73" name="Picture 9" descr="button21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96140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7" action="ppaction://hlinksldjump"/>
            </p:cNvPr>
            <p:cNvSpPr/>
            <p:nvPr/>
          </p:nvSpPr>
          <p:spPr>
            <a:xfrm>
              <a:off x="809028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7526160" y="4732200"/>
            <a:ext cx="423720" cy="346680"/>
            <a:chOff x="7526160" y="4732200"/>
            <a:chExt cx="423720" cy="346680"/>
          </a:xfrm>
        </p:grpSpPr>
        <p:pic>
          <p:nvPicPr>
            <p:cNvPr id="76" name="Picture 12" descr="button21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752616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0" action="ppaction://hlinksldjump"/>
            </p:cNvPr>
            <p:cNvSpPr/>
            <p:nvPr/>
          </p:nvSpPr>
          <p:spPr>
            <a:xfrm>
              <a:off x="765504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7093080" y="4732200"/>
            <a:ext cx="423720" cy="346680"/>
            <a:chOff x="7093080" y="4732200"/>
            <a:chExt cx="423720" cy="346680"/>
          </a:xfrm>
        </p:grpSpPr>
        <p:pic>
          <p:nvPicPr>
            <p:cNvPr id="79" name="Picture 15" descr="button21"/>
            <p:cNvPicPr/>
            <p:nvPr/>
          </p:nvPicPr>
          <p:blipFill>
            <a:blip r:embed="rId11"/>
            <a:stretch/>
          </p:blipFill>
          <p:spPr>
            <a:xfrm>
              <a:off x="70930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2" action="ppaction://hlinksldjump"/>
            </p:cNvPr>
            <p:cNvSpPr/>
            <p:nvPr/>
          </p:nvSpPr>
          <p:spPr>
            <a:xfrm>
              <a:off x="72219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찬425-2-2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8396280" y="4732200"/>
            <a:ext cx="423720" cy="346680"/>
            <a:chOff x="8396280" y="4732200"/>
            <a:chExt cx="423720" cy="346680"/>
          </a:xfrm>
        </p:grpSpPr>
        <p:pic>
          <p:nvPicPr>
            <p:cNvPr id="83" name="Picture 6" descr="button21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3962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4" action="ppaction://hlinksldjump"/>
            </p:cNvPr>
            <p:cNvSpPr/>
            <p:nvPr/>
          </p:nvSpPr>
          <p:spPr>
            <a:xfrm>
              <a:off x="85251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7961400" y="4732200"/>
            <a:ext cx="423720" cy="346680"/>
            <a:chOff x="7961400" y="4732200"/>
            <a:chExt cx="423720" cy="346680"/>
          </a:xfrm>
        </p:grpSpPr>
        <p:pic>
          <p:nvPicPr>
            <p:cNvPr id="86" name="Picture 9" descr="button21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96140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7" action="ppaction://hlinksldjump"/>
            </p:cNvPr>
            <p:cNvSpPr/>
            <p:nvPr/>
          </p:nvSpPr>
          <p:spPr>
            <a:xfrm>
              <a:off x="809028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7526160" y="4732200"/>
            <a:ext cx="423720" cy="346680"/>
            <a:chOff x="7526160" y="4732200"/>
            <a:chExt cx="423720" cy="346680"/>
          </a:xfrm>
        </p:grpSpPr>
        <p:pic>
          <p:nvPicPr>
            <p:cNvPr id="89" name="Picture 12" descr="button21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752616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0" action="ppaction://hlinksldjump"/>
            </p:cNvPr>
            <p:cNvSpPr/>
            <p:nvPr/>
          </p:nvSpPr>
          <p:spPr>
            <a:xfrm>
              <a:off x="765504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7093080" y="4732200"/>
            <a:ext cx="423720" cy="346680"/>
            <a:chOff x="7093080" y="4732200"/>
            <a:chExt cx="423720" cy="346680"/>
          </a:xfrm>
        </p:grpSpPr>
        <p:pic>
          <p:nvPicPr>
            <p:cNvPr id="92" name="Picture 15" descr="button21"/>
            <p:cNvPicPr/>
            <p:nvPr/>
          </p:nvPicPr>
          <p:blipFill>
            <a:blip r:embed="rId11"/>
            <a:stretch/>
          </p:blipFill>
          <p:spPr>
            <a:xfrm>
              <a:off x="70930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2" action="ppaction://hlinksldjump"/>
            </p:cNvPr>
            <p:cNvSpPr/>
            <p:nvPr/>
          </p:nvSpPr>
          <p:spPr>
            <a:xfrm>
              <a:off x="72219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찬425-3-1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8396280" y="4732200"/>
            <a:ext cx="423720" cy="346680"/>
            <a:chOff x="8396280" y="4732200"/>
            <a:chExt cx="423720" cy="346680"/>
          </a:xfrm>
        </p:grpSpPr>
        <p:pic>
          <p:nvPicPr>
            <p:cNvPr id="96" name="Picture 6" descr="button21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3962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4" action="ppaction://hlinksldjump"/>
            </p:cNvPr>
            <p:cNvSpPr/>
            <p:nvPr/>
          </p:nvSpPr>
          <p:spPr>
            <a:xfrm>
              <a:off x="85251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7961400" y="4732200"/>
            <a:ext cx="423720" cy="346680"/>
            <a:chOff x="7961400" y="4732200"/>
            <a:chExt cx="423720" cy="346680"/>
          </a:xfrm>
        </p:grpSpPr>
        <p:pic>
          <p:nvPicPr>
            <p:cNvPr id="99" name="Picture 9" descr="button21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96140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7" action="ppaction://hlinksldjump"/>
            </p:cNvPr>
            <p:cNvSpPr/>
            <p:nvPr/>
          </p:nvSpPr>
          <p:spPr>
            <a:xfrm>
              <a:off x="809028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7526160" y="4732200"/>
            <a:ext cx="423720" cy="346680"/>
            <a:chOff x="7526160" y="4732200"/>
            <a:chExt cx="423720" cy="346680"/>
          </a:xfrm>
        </p:grpSpPr>
        <p:pic>
          <p:nvPicPr>
            <p:cNvPr id="102" name="Picture 12" descr="button21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752616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0" action="ppaction://hlinksldjump"/>
            </p:cNvPr>
            <p:cNvSpPr/>
            <p:nvPr/>
          </p:nvSpPr>
          <p:spPr>
            <a:xfrm>
              <a:off x="765504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7093080" y="4732200"/>
            <a:ext cx="423720" cy="346680"/>
            <a:chOff x="7093080" y="4732200"/>
            <a:chExt cx="423720" cy="346680"/>
          </a:xfrm>
        </p:grpSpPr>
        <p:pic>
          <p:nvPicPr>
            <p:cNvPr id="105" name="Picture 15" descr="button21"/>
            <p:cNvPicPr/>
            <p:nvPr/>
          </p:nvPicPr>
          <p:blipFill>
            <a:blip r:embed="rId11"/>
            <a:stretch/>
          </p:blipFill>
          <p:spPr>
            <a:xfrm>
              <a:off x="70930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2" action="ppaction://hlinksldjump"/>
            </p:cNvPr>
            <p:cNvSpPr/>
            <p:nvPr/>
          </p:nvSpPr>
          <p:spPr>
            <a:xfrm>
              <a:off x="72219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찬425-3-2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8396280" y="4732200"/>
            <a:ext cx="423720" cy="346680"/>
            <a:chOff x="8396280" y="4732200"/>
            <a:chExt cx="423720" cy="346680"/>
          </a:xfrm>
        </p:grpSpPr>
        <p:pic>
          <p:nvPicPr>
            <p:cNvPr id="109" name="Picture 6" descr="button21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3962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4" action="ppaction://hlinksldjump"/>
            </p:cNvPr>
            <p:cNvSpPr/>
            <p:nvPr/>
          </p:nvSpPr>
          <p:spPr>
            <a:xfrm>
              <a:off x="85251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7961400" y="4732200"/>
            <a:ext cx="423720" cy="346680"/>
            <a:chOff x="7961400" y="4732200"/>
            <a:chExt cx="423720" cy="346680"/>
          </a:xfrm>
        </p:grpSpPr>
        <p:pic>
          <p:nvPicPr>
            <p:cNvPr id="112" name="Picture 9" descr="button21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96140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7" action="ppaction://hlinksldjump"/>
            </p:cNvPr>
            <p:cNvSpPr/>
            <p:nvPr/>
          </p:nvSpPr>
          <p:spPr>
            <a:xfrm>
              <a:off x="809028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7526160" y="4732200"/>
            <a:ext cx="423720" cy="346680"/>
            <a:chOff x="7526160" y="4732200"/>
            <a:chExt cx="423720" cy="346680"/>
          </a:xfrm>
        </p:grpSpPr>
        <p:pic>
          <p:nvPicPr>
            <p:cNvPr id="115" name="Picture 12" descr="button21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752616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0" action="ppaction://hlinksldjump"/>
            </p:cNvPr>
            <p:cNvSpPr/>
            <p:nvPr/>
          </p:nvSpPr>
          <p:spPr>
            <a:xfrm>
              <a:off x="765504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7093080" y="4732200"/>
            <a:ext cx="423720" cy="346680"/>
            <a:chOff x="7093080" y="4732200"/>
            <a:chExt cx="423720" cy="346680"/>
          </a:xfrm>
        </p:grpSpPr>
        <p:pic>
          <p:nvPicPr>
            <p:cNvPr id="118" name="Picture 15" descr="button21"/>
            <p:cNvPicPr/>
            <p:nvPr/>
          </p:nvPicPr>
          <p:blipFill>
            <a:blip r:embed="rId11"/>
            <a:stretch/>
          </p:blipFill>
          <p:spPr>
            <a:xfrm>
              <a:off x="70930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2" action="ppaction://hlinksldjump"/>
            </p:cNvPr>
            <p:cNvSpPr/>
            <p:nvPr/>
          </p:nvSpPr>
          <p:spPr>
            <a:xfrm>
              <a:off x="72219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찬425-4-1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8396280" y="4732200"/>
            <a:ext cx="423720" cy="346680"/>
            <a:chOff x="8396280" y="4732200"/>
            <a:chExt cx="423720" cy="346680"/>
          </a:xfrm>
        </p:grpSpPr>
        <p:pic>
          <p:nvPicPr>
            <p:cNvPr id="122" name="Picture 6" descr="button21"/>
            <p:cNvPicPr/>
            <p:nvPr/>
          </p:nvPicPr>
          <p:blipFill>
            <a:blip r:embed="rId2"/>
            <a:stretch/>
          </p:blipFill>
          <p:spPr>
            <a:xfrm>
              <a:off x="83962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85251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7961400" y="4732200"/>
            <a:ext cx="423720" cy="346680"/>
            <a:chOff x="7961400" y="4732200"/>
            <a:chExt cx="423720" cy="346680"/>
          </a:xfrm>
        </p:grpSpPr>
        <p:pic>
          <p:nvPicPr>
            <p:cNvPr id="125" name="Picture 9" descr="button21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796140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5" action="ppaction://hlinksldjump"/>
            </p:cNvPr>
            <p:cNvSpPr/>
            <p:nvPr/>
          </p:nvSpPr>
          <p:spPr>
            <a:xfrm>
              <a:off x="809028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7526160" y="4732200"/>
            <a:ext cx="423720" cy="346680"/>
            <a:chOff x="7526160" y="4732200"/>
            <a:chExt cx="423720" cy="346680"/>
          </a:xfrm>
        </p:grpSpPr>
        <p:pic>
          <p:nvPicPr>
            <p:cNvPr id="128" name="Picture 12" descr="button21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752616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8" action="ppaction://hlinksldjump"/>
            </p:cNvPr>
            <p:cNvSpPr/>
            <p:nvPr/>
          </p:nvSpPr>
          <p:spPr>
            <a:xfrm>
              <a:off x="765504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7093080" y="4732200"/>
            <a:ext cx="423720" cy="346680"/>
            <a:chOff x="7093080" y="4732200"/>
            <a:chExt cx="423720" cy="346680"/>
          </a:xfrm>
        </p:grpSpPr>
        <p:pic>
          <p:nvPicPr>
            <p:cNvPr id="131" name="Picture 15" descr="button21"/>
            <p:cNvPicPr/>
            <p:nvPr/>
          </p:nvPicPr>
          <p:blipFill>
            <a:blip r:embed="rId9"/>
            <a:stretch/>
          </p:blipFill>
          <p:spPr>
            <a:xfrm>
              <a:off x="70930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0" action="ppaction://hlinksldjump"/>
            </p:cNvPr>
            <p:cNvSpPr/>
            <p:nvPr/>
          </p:nvSpPr>
          <p:spPr>
            <a:xfrm>
              <a:off x="72219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7" descr="찬425-4-2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8396280" y="4732200"/>
            <a:ext cx="423720" cy="346680"/>
            <a:chOff x="8396280" y="4732200"/>
            <a:chExt cx="423720" cy="346680"/>
          </a:xfrm>
        </p:grpSpPr>
        <p:pic>
          <p:nvPicPr>
            <p:cNvPr id="135" name="Picture 6" descr="button21"/>
            <p:cNvPicPr/>
            <p:nvPr/>
          </p:nvPicPr>
          <p:blipFill>
            <a:blip r:embed="rId2"/>
            <a:stretch/>
          </p:blipFill>
          <p:spPr>
            <a:xfrm>
              <a:off x="83962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85251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7961400" y="4732200"/>
            <a:ext cx="423720" cy="346680"/>
            <a:chOff x="7961400" y="4732200"/>
            <a:chExt cx="423720" cy="346680"/>
          </a:xfrm>
        </p:grpSpPr>
        <p:pic>
          <p:nvPicPr>
            <p:cNvPr id="138" name="Picture 9" descr="button21"/>
            <p:cNvPicPr/>
            <p:nvPr/>
          </p:nvPicPr>
          <p:blipFill>
            <a:blip r:embed="rId3"/>
            <a:stretch/>
          </p:blipFill>
          <p:spPr>
            <a:xfrm>
              <a:off x="796140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809028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7526160" y="4732200"/>
            <a:ext cx="423720" cy="346680"/>
            <a:chOff x="7526160" y="4732200"/>
            <a:chExt cx="423720" cy="346680"/>
          </a:xfrm>
        </p:grpSpPr>
        <p:pic>
          <p:nvPicPr>
            <p:cNvPr id="141" name="Picture 12" descr="button21"/>
            <p:cNvPicPr/>
            <p:nvPr/>
          </p:nvPicPr>
          <p:blipFill>
            <a:blip r:embed="rId4"/>
            <a:stretch/>
          </p:blipFill>
          <p:spPr>
            <a:xfrm>
              <a:off x="752616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765504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7093080" y="4732200"/>
            <a:ext cx="423720" cy="346680"/>
            <a:chOff x="7093080" y="4732200"/>
            <a:chExt cx="423720" cy="346680"/>
          </a:xfrm>
        </p:grpSpPr>
        <p:pic>
          <p:nvPicPr>
            <p:cNvPr id="144" name="Picture 15" descr="button21"/>
            <p:cNvPicPr/>
            <p:nvPr/>
          </p:nvPicPr>
          <p:blipFill>
            <a:blip r:embed="rId5"/>
            <a:stretch/>
          </p:blipFill>
          <p:spPr>
            <a:xfrm>
              <a:off x="7093080" y="4732200"/>
              <a:ext cx="42372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7221960" y="47736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맑은 고딕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16:30:37Z</dcterms:created>
  <dc:creator>최봉수</dc:creator>
  <dc:description/>
  <dc:language>en-US</dc:language>
  <cp:lastModifiedBy>맛있다 군만두</cp:lastModifiedBy>
  <dcterms:modified xsi:type="dcterms:W3CDTF">2023-07-13T09:57:55Z</dcterms:modified>
  <cp:revision>6</cp:revision>
  <dc:subject/>
  <dc:title>슬라이드 1</dc:title>
</cp:coreProperties>
</file>