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5A4-A5F0-4187-ACC1-3E493511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165-225D-459D-8EB0-3E7204EF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21A-3C7E-46FF-9AC2-206F434E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67F-231F-4D08-95DC-8582447D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983-25C2-43FF-A864-9A70616D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8F2-3514-4F0C-B8ED-D81FCC84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339-894D-4223-AE3B-8CBC8886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C00-CED4-4B38-92A6-3912EBF8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DD6-63A0-458C-A575-0B98CC0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3D2-34D7-4EBC-BB17-D98194DB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EA8-A244-4187-9CED-174B5760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A9A-AD2B-4173-9554-9550A0EC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17C1-38A0-499F-9A77-D2E60C3F606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8T20:46:50Z</dcterms:modified>
  <cp:revision>24</cp:revision>
  <dc:subject/>
  <dc:title>슬라이드 1</dc:title>
</cp:coreProperties>
</file>