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CE95-C411-4793-B648-F207BA029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2A92-2A3C-4CBE-96BB-7127535CA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DBCC-B51B-4C62-B4FB-84D9B96FF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65DD-1DCA-4C33-B760-3C3F37CFA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F05C-DD6E-4AD2-9920-EED7285ED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A895-D220-4D4D-BA1D-0165CCAF1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4948-107F-4F60-B38C-C2B404AB2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2DC3-404A-4836-BA4D-AC821EB01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4DB1-C125-41BC-A674-6F2B3428A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6DB3-09C4-4D98-BF3E-187D1EABD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7797-7C61-4E46-9A72-85D99EE04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91B8-A9E8-4CDD-8E44-9219636A5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995B9-DE66-4130-B05F-EF2BB32810F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2T01:22:16Z</dcterms:created>
  <dc:creator>All user</dc:creator>
  <dc:description/>
  <dc:language>en-US</dc:language>
  <cp:lastModifiedBy>Seo, Jiwon</cp:lastModifiedBy>
  <dcterms:modified xsi:type="dcterms:W3CDTF">2020-12-28T20:46:50Z</dcterms:modified>
  <cp:revision>24</cp:revision>
  <dc:subject/>
  <dc:title>슬라이드 1</dc:title>
</cp:coreProperties>
</file>