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2898-E0FC-4BBF-BB31-89E2B60A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1FA1-3C46-4BB0-A1EF-977F2A66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DDCA-BD93-4B00-9BF7-A3CF40D3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43A7-6AAD-4FC7-B4A4-1258BF8A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2E2F-2173-44BA-B65E-E04CEBF6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DCFD-38C8-41CC-AE79-F8FD6F65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C36F-1C14-4449-A323-0F0216F1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BA66-4AF4-49BE-A97E-ED5699E9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EBCC-BAB3-4A5D-817C-90B649A7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C3A3-EE50-4349-99A8-5D810DC3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F900-ADD7-4DF0-8C05-F863CF93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EA99-8250-4258-B26D-B5411511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AF6D3C-B3FE-4D74-BF18-DF811A9447B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28152-4CB3-4D35-93D8-A150A562305D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4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15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16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17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1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9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20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21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22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15:38:20Z</dcterms:created>
  <dc:creator>최봉수</dc:creator>
  <dc:description/>
  <dc:language>en-US</dc:language>
  <cp:lastModifiedBy>맛있다 군만두</cp:lastModifiedBy>
  <dcterms:modified xsi:type="dcterms:W3CDTF">2023-07-13T08:49:19Z</dcterms:modified>
  <cp:revision>3</cp:revision>
  <dc:subject/>
  <dc:title>슬라이드 1</dc:title>
</cp:coreProperties>
</file>