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BCB-FECC-4549-8BE8-BC9AB268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574-FF25-4E07-9D0C-E370F2E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C27-3909-4130-87FA-1FF2BAB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C3E-0744-4F45-968A-32F91FA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C86-1E02-472F-B0B4-05A6336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B75-CC5B-450A-B16C-2530D95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EB1-2C0A-4B19-9142-BF7304D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C65-9685-405E-A2BF-215E043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9C7-F90D-4FBA-B7BD-E20BEAA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CF9-35A5-4955-A3E1-F13D2A98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571-0C9A-49A0-B41E-06DFF29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0A9-6ED3-4FD6-A644-ECF3AFF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79A93-630C-4E60-8CD1-AA775C9ED7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32F33-9CC5-48F9-B313-9966435111C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1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6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1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9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21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2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5:38:20Z</dcterms:created>
  <dc:creator>최봉수</dc:creator>
  <dc:description/>
  <dc:language>en-US</dc:language>
  <cp:lastModifiedBy>맛있다 군만두</cp:lastModifiedBy>
  <dcterms:modified xsi:type="dcterms:W3CDTF">2023-07-13T08:49:19Z</dcterms:modified>
  <cp:revision>3</cp:revision>
  <dc:subject/>
  <dc:title>슬라이드 1</dc:title>
</cp:coreProperties>
</file>