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132-8161-4FC5-96DB-9FF001CF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0E9-91DA-4D38-AFBE-11F0ED4D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5D0-F377-46A4-80C6-AC31CF4A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00A-800C-4257-A1A3-31CDAA84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119-9B81-4C70-A12A-85178119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91B6-119F-4488-9037-2723DD9E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7855-938A-4E9F-BB49-7B4DE014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FC2-0A57-44C9-BF00-5B49A729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2554-A361-479C-AA38-FD848126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1F8-234F-45CA-AED2-47D99528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625B-5EBE-4FBB-B736-B83DF6D5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B44-2231-4DD9-8860-42158555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4A7FE-9215-47E4-A4E3-8A1EEDB19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CD16D-2698-4C98-92DB-FA494507AA7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2:29:01Z</dcterms:created>
  <dc:creator>최봉수</dc:creator>
  <dc:description/>
  <dc:language>en-US</dc:language>
  <cp:lastModifiedBy>군만두 맛있다</cp:lastModifiedBy>
  <dcterms:modified xsi:type="dcterms:W3CDTF">2023-07-09T01:22:51Z</dcterms:modified>
  <cp:revision>2</cp:revision>
  <dc:subject/>
  <dc:title>슬라이드 1</dc:title>
</cp:coreProperties>
</file>