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CA6-FF38-4245-B3A0-D3BEA710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D7E-5BF3-42AA-B934-3D814513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46F-7997-4670-BBAD-CD1376AC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5DA-7F5F-4470-9AB9-9D1A7B63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96F-5E7B-4163-9323-00E15A51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513-4F90-43D0-9B02-910C2797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F0E-793D-4EA9-8F5B-E214EE69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D58-ED85-4A3F-B41E-9D0D2155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DD4-B0B1-4F24-ACED-7DB9A428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A37-A662-456A-9205-0BD94450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ECE-91AF-41B8-9931-6A15D1DA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E04-EF2B-437A-9906-2C134A64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1C6C3-0292-495F-ADCE-B3F494363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86984-14AC-4373-BA1C-3FE708036B3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2:29:01Z</dcterms:created>
  <dc:creator>최봉수</dc:creator>
  <dc:description/>
  <dc:language>en-US</dc:language>
  <cp:lastModifiedBy>군만두 맛있다</cp:lastModifiedBy>
  <dcterms:modified xsi:type="dcterms:W3CDTF">2023-07-09T01:22:51Z</dcterms:modified>
  <cp:revision>2</cp:revision>
  <dc:subject/>
  <dc:title>슬라이드 1</dc:title>
</cp:coreProperties>
</file>